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D103-8390-42F1-9B5A-288B4B97D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7030-5EEF-48D4-ADB7-BB2C572D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24E0-E03A-4D97-8B32-0402EF20B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55B5-4ED9-4240-9A05-BB36D0A30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1F99-04DE-467A-8FEF-A2190D1D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194E-EC5D-430B-BC97-AF710207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9726-7AD9-4563-ABBF-29D853C2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4946-6BC4-4C89-9DC0-61911CBB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F90A-549F-4E8E-98C4-66EF4CAD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6CA1-0E6E-40AE-AA94-04F40B78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8B7C-EA14-4D2F-8F09-19ACA4B7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44E3-98AA-47B8-91CD-9D706C45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EFE1-3577-4D24-9B51-E696ECE32519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915840" y="5686560"/>
            <a:ext cx="34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ilpa A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95840" y="56865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95680" y="2495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4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62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257040" y="341280"/>
          <a:ext cx="1319040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7040" y="341280"/>
                    <a:ext cx="1319040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24120" y="5581800"/>
            <a:ext cx="15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ilpa A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74480" y="55818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85112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3176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6844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1747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3920" y="467532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95120" y="467532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87560" y="467676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78040" y="46767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9120" y="38559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40040" y="40845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63600" y="2782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43200" y="3360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67560" y="38829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78760" y="402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34360" y="2728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12160" y="2989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62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204840" y="468360"/>
          <a:ext cx="1307484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4840" y="468360"/>
                    <a:ext cx="1307484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239840" y="5477040"/>
            <a:ext cx="147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ilpa Al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02760" y="54482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2604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26044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26044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-26280" y="477036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73120" y="477036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68240" y="477036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52240" y="477036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54440" y="477036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38840" y="477036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13372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13372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13192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248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5800" y="39211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95120" y="404820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72560" y="3835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91880" y="404820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50720" y="410544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85400" y="3521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2920" y="3807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79120" y="3963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95680" y="329256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46240" y="3606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63760" y="396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41560" y="34354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17760" y="369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235280" y="3992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55840" y="34639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128800" y="377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448120" y="3992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6280" y="62355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-371520" y="2298600"/>
          <a:ext cx="1301760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71520" y="2298600"/>
                    <a:ext cx="1301760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57508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5750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57508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42424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4242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42244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25720" y="554832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66160" y="55497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97080" y="43257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06720" y="43545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30840" y="4154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64360" y="39830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72200" y="4183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151760" y="3987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784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5568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43080" y="1228680"/>
          <a:ext cx="13390920" cy="46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43080" y="1228680"/>
                    <a:ext cx="13390920" cy="46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3176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592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3728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4920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8488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8136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6480" y="535320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30680" y="533880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33440" y="493704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39360" y="4775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91440" y="142884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5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23520" y="4876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891560" y="39751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27880" y="22557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2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89680" y="5340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64640" y="536904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50560" y="53640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07880" y="533556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8520" y="595476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13280" y="596268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85040" y="59832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59680" y="45784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24560" y="33764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2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72840" y="31780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63880" y="4606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09840" y="30909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87480" y="34383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0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78600" y="49086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94160" y="4435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2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44240" y="1735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040" y="48798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8080" y="4097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2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69960" y="21128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6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7840" y="640728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0464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-85680" y="1630440"/>
          <a:ext cx="1255248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5680" y="1630440"/>
                    <a:ext cx="1255248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081080" y="16113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19520" y="1611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43680" y="16113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99600" y="149220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50640" y="149220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61120" y="149400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28160" y="552600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81760" y="552780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932160" y="488160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082640" y="4362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5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747560" y="2139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3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49120" y="4851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03000" y="4378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5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12480" y="2141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3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6680" y="552600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81480" y="552600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701120" y="2546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18560" y="4781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06000" y="369396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99200" y="2948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9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36360" y="4809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54960" y="3548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0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90000" y="3060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7628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00120"/>
          <a:ext cx="848196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00120"/>
                    <a:ext cx="848196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590840" y="5810400"/>
            <a:ext cx="15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lpa A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6880" y="58104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66960" y="272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52560" y="3009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1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72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52960" y="2981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040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6865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6865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6865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09800" y="31719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4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09960" y="22478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57840" y="20001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1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199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36680" y="1357200"/>
          <a:ext cx="911376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357200"/>
                    <a:ext cx="911376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49600" y="54770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81880" y="54770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5000" y="54770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50920" y="1857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3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25600" y="1854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9400" y="2832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5596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133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920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51484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7560" y="548316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6680" y="546732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82760" y="2921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29040" y="2540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1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73680" y="1778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196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324080"/>
          <a:ext cx="88585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24080"/>
                    <a:ext cx="8858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83160" y="554832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554832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5483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53960" y="2803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01680" y="2513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84640" y="3317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06800" y="3033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16400" y="3817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6880" y="35179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04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06280" y="706320"/>
          <a:ext cx="8999640" cy="467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706320"/>
                    <a:ext cx="8999640" cy="46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93760" y="520236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66080" y="52052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7200" y="520524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69680" y="52052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0520" y="2303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80200" y="2827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0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70760" y="2684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3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89800" y="3319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56560" y="3855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8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58280" y="2075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28440" y="2608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59920" y="3166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06040" y="2293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09240" y="2871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01560" y="3446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11080" y="5705640"/>
            <a:ext cx="147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ilpa Al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16880" y="57056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12120" y="3462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142920" y="512640"/>
          <a:ext cx="1310328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2920" y="512640"/>
                    <a:ext cx="1310328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353960" y="5619600"/>
            <a:ext cx="147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ilpa Al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88440" y="56196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280" y="47829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4120" y="48006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4720" y="484020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38920" y="486900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52280" y="4802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67000" y="48117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48640" y="16509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214632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07120" y="150804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11080" y="20271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000" y="3468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9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5920" y="3726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4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97600" y="3051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9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43720" y="2990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0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28160" y="3405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45840" y="3951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7720" y="3405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23720" y="3610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68200" y="26701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85880" y="2759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09480" y="3147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28600" y="3436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28440" y="770040"/>
          <a:ext cx="1212372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8440" y="770040"/>
                    <a:ext cx="1212372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038240" y="5624640"/>
            <a:ext cx="15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ilpa A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31600" y="55958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05520" y="20509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15240" y="25462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61840" y="18842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6160" y="24033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2360" y="51037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24280" y="5103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01560" y="51055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50000" y="5105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9120" y="3071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50920" y="3789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7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66840" y="4011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5000" y="4370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52920" y="266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62680" y="3186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03800" y="3868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583760" y="4183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7840" y="626436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9-02-15T16:59:06Z</cp:lastPrinted>
  <dcterms:modified xsi:type="dcterms:W3CDTF">1999-02-26T20:11:52Z</dcterms:modified>
  <cp:revision>221</cp:revision>
  <dc:subject/>
  <dc:title>Gráfica 1 Prevalencia de Uso de Tabaco  Alguna Vez</dc:title>
</cp:coreProperties>
</file>