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C1DB-FC05-492A-A77B-FC027D92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CC08-44C5-45B1-8BF5-016484C9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5B5-0F2F-4DAF-9025-1EB77497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A36-B91A-470C-8A78-2E346386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680F-B5B8-4AC0-B23C-5B282E1D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8BD-76A0-4D93-AAA9-AFFACDE1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214-C2E8-424F-A317-66EE52E9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98F0-10BB-4ED4-BAE5-7585D7E8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166C-9E26-4F99-AECB-748ACBD6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12C-3293-47CA-B6D1-86B8C01F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47A7-BE8B-4FA2-8F87-25A91C03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B4CF-7156-459F-8200-F2ACB892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B0B3-A061-49B1-9EA3-8A534F6E0653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577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577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81360" y="2295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14480" y="369720"/>
          <a:ext cx="1301760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369720"/>
                    <a:ext cx="1301760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325160" y="55818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0312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795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128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035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280" y="47037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03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7560" y="4705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63720" y="4705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3600" y="3884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416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2468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86120" y="2760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6000" y="3911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3600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05560" y="2757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6904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376200" y="382680"/>
          <a:ext cx="1347948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6200" y="382680"/>
                    <a:ext cx="1347948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96360" y="5419800"/>
            <a:ext cx="111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88440" y="54198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3176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3176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20" y="46846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15880" y="468468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25480" y="46846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3440" y="46846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54440" y="468468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8840" y="46846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9060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9060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8916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560" y="2978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2880" y="32925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94600" y="3790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964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5840" y="381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22280" y="399096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9972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45680" y="3863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360" y="39924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52920" y="31780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7468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6376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7000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4620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5280" y="3935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7032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1484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05360" y="3935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920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52720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2720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60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60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60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0976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09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083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57676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5785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41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64120" y="4583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41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560" y="3125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532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4559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89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79440" y="122868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9440" y="122868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9954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195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009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28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481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450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42840" y="546732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22760" y="545292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7080" y="49658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1440" y="4775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69040" y="1457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58360" y="487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12080" y="4032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4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19960" y="2284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96080" y="54547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99480" y="54547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14200" y="5478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1160" y="5478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0600" y="606888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48120" y="61056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19880" y="60976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3692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30760" y="3176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64200" y="3521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8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1480" y="44067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4680" y="3119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8000" y="3638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5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5708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86240" y="4264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07520" y="1963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120" y="4908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1360" y="3811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4800" y="2484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7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4720" y="643572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1896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1573200"/>
          <a:ext cx="1223640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73200"/>
                    <a:ext cx="1223640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99540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3384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800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392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6496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508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42120" y="544032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10040" y="54421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18040" y="482436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68160" y="44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05000" y="1940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06720" y="47941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17320" y="4264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55240" y="217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5120" y="544032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52680" y="544032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15440" y="24890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5800" y="458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19960" y="335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0760" y="3262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36360" y="4724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40640" y="329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18800" y="3174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7840" y="635004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792080" y="58672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610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9800" y="2724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628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444680"/>
          <a:ext cx="833940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444680"/>
                    <a:ext cx="833940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72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722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722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0290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619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7840" y="1771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2097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104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10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93528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6756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1068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9360" y="18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25800" y="2454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46640" y="2460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a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692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219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200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40976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0976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68440" y="243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627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13240" y="2860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90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02080" y="3360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75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7840" y="706320"/>
          <a:ext cx="9109080" cy="464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706320"/>
                    <a:ext cx="9109080" cy="46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22200" y="514512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8840" y="51768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1768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26920" y="51768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3640" y="1932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9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0200" y="2370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0760" y="1969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9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89800" y="2490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56560" y="3112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87080" y="2075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8440" y="2608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720" y="313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293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38040" y="2871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41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82080" y="5676840"/>
            <a:ext cx="111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73760" y="56768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54880" y="2890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336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228600" y="426960"/>
          <a:ext cx="132476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426960"/>
                    <a:ext cx="132476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25160" y="5591160"/>
            <a:ext cx="111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8440" y="55627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80" y="46972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4120" y="4714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3160" y="472608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240" y="47260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81080" y="4716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8200" y="472608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5937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0890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4508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69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7880" y="3240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8680" y="3240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97600" y="2422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43720" y="24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99360" y="2690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17040" y="295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204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524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55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5880" y="2644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38280" y="3033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7400" y="3322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04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14480" y="885960"/>
          <a:ext cx="11776320" cy="44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885960"/>
                    <a:ext cx="11776320" cy="44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125360" y="57103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7120" y="56815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4796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9750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23130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8321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6320" y="51325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38240" y="513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73120" y="51339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5880" y="5133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1880" y="2500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36440" y="2760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2720" y="3925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30520" y="422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24320" y="272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05280" y="327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89520" y="3925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69480" y="421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1-25T17:41:44Z</cp:lastPrinted>
  <dcterms:modified xsi:type="dcterms:W3CDTF">1999-02-26T19:40:18Z</dcterms:modified>
  <cp:revision>255</cp:revision>
  <dc:subject/>
  <dc:title>Gráfica 1 Prevalencia de Uso de Tabaco  Alguna Vez</dc:title>
</cp:coreProperties>
</file>