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9EF-DC92-4D18-BD16-6BEE015C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0C8-E547-4BBF-8E5F-BD6485F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B58-4272-4CAC-8EAA-2265579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3ED-5F09-4ECF-A4F3-1D48FCA5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84E-1112-4F93-BAEA-D0846F86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C20-E188-4D80-96FF-1DE598F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5E3-BE49-4047-BB69-DEBA08E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E76-8EEA-477A-BA50-38B2D49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7A1-9156-4A64-A5D4-45EDE07C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8AE-10DE-47F1-A8C7-ACBFF86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26F-EAAF-4961-A5C7-D1345C3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62C-9A8E-440A-AAAC-371C195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E05C-8077-4693-BE71-41723858B16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2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70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8920" y="426960"/>
          <a:ext cx="131014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426960"/>
                    <a:ext cx="131014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102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61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61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4976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49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588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58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50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2628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440" y="620712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9520" y="439560"/>
          <a:ext cx="12930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39560"/>
                    <a:ext cx="12930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5080" y="550548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1708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088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88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3016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3080" y="353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049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8276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0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68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40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5748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5748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960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1860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080" y="259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124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33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592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94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033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40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7920" y="2455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6064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6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9320" y="222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96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7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83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77200" y="3665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2160" y="1587600"/>
          <a:ext cx="84870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587600"/>
                    <a:ext cx="84870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76360" y="5867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5824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4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83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67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714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62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085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054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054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9320" y="55054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9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22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72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404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5245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05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9360" y="1835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2360" y="1293840"/>
          <a:ext cx="8972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293840"/>
                    <a:ext cx="8972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4024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640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720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0320" y="254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016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66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3480" y="33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9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35120"/>
          <a:ext cx="914400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5120"/>
                    <a:ext cx="91440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79440" y="53737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376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73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588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852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0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224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412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172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5216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240" y="57769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8080" y="5776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320" y="48420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48420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12280" y="57625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82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7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132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4160" y="16794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5080" y="2195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000" y="15526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68160" y="2068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5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230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43880" y="26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52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65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09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640" y="655560"/>
          <a:ext cx="12554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655560"/>
                    <a:ext cx="12554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24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089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48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27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29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62480" y="31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17:42:04Z</cp:lastPrinted>
  <dcterms:modified xsi:type="dcterms:W3CDTF">1999-02-26T20:41:28Z</dcterms:modified>
  <cp:revision>106</cp:revision>
  <dc:subject/>
  <dc:title>Gráfica 1 Prevalencia de Uso de Tabaco  Alguna Vez</dc:title>
</cp:coreProperties>
</file>