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583-DBD9-4AEF-8ED5-049C05EE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E67-3853-488A-A5D5-28EDCC24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B4B-3002-47CC-976D-E7B4CBA3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F0D-7C06-4E33-9785-FE86FD54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9FC-7299-4F28-A26D-AC64A842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35E-C27F-4710-AE15-2BB0B480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378-6CFF-4581-9758-DA91441F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665-899B-41A0-B8EB-BFA62042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4D4-4A66-4244-A9CC-A8D6BF0D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7EA-D347-4455-AF84-A0CFA8BF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C93-598B-4933-8B64-8A384101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00D-1CE8-47B0-BA5C-A4EFD2A5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AE4B-78A0-40B2-AAF6-C3B6E3DD9DB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53080" y="5800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381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426960"/>
          <a:ext cx="12266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6960"/>
                    <a:ext cx="12266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3160" y="56959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31400" y="56959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604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252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73280" y="4762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21000" y="4762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140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75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38960" y="396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7860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4852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2632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3480" y="496800"/>
          <a:ext cx="125272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496800"/>
                    <a:ext cx="125272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53080" y="544824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59840" y="54198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747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747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747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5080" y="47991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5880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7991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4032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3868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480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480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462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960" y="3006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14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200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2980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7560" y="364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760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3978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800" y="42210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748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351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417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5744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95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056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5256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56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3464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3464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95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95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938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748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749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44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49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2725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29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387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0024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0024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1144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17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8770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67120" y="3176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3549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3828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666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344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264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906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840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370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906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7336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7336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6676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936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528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632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9080" y="5024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25240" y="4705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3328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6200" y="5022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54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9560" y="2284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840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924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66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26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21440" y="5867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412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495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5764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74920"/>
          <a:ext cx="833940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74920"/>
                    <a:ext cx="8339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2114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18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24400" y="2076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22120" y="1771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1480" y="2082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26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778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39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235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78000" y="1298520"/>
          <a:ext cx="94694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8520"/>
                    <a:ext cx="94694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4560" y="54910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33640" y="54910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491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1040" y="24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4464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27400" y="28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3880" y="311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0880" y="35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360" y="3603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7760" y="735120"/>
          <a:ext cx="87962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735120"/>
                    <a:ext cx="87962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6680" y="52005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3320" y="51958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1958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1958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680" y="1874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1560" y="234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1368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662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370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39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688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19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84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1720" y="569124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691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2976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512640"/>
          <a:ext cx="1266840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2640"/>
                    <a:ext cx="1266840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4800" y="564840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8824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84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9528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225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98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154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8480" y="3668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7760" y="239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544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03080" y="3179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5408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1400" y="270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860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7240" y="627120"/>
          <a:ext cx="12295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27120"/>
                    <a:ext cx="12295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26080" y="57103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7448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368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028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496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372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132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2168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20" y="2328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3660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000" y="3998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2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0396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0T21:02:54Z</cp:lastPrinted>
  <dcterms:modified xsi:type="dcterms:W3CDTF">1999-02-26T20:34:30Z</dcterms:modified>
  <cp:revision>126</cp:revision>
  <dc:subject/>
  <dc:title>Gráfica 1 Prevalencia de Uso de Tabaco  Alguna Vez</dc:title>
</cp:coreProperties>
</file>