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376-2931-4AA8-A059-66244D01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706-3A46-46D3-8C2A-70938B7E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31D-05B5-431E-A47E-985E9F19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ED5-8DAD-4462-9C99-1FC0E6B6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9E8-E673-477E-9391-7A4F718B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A7B-DF9F-4A8C-B1E3-047092A2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F71-B9C7-4F97-A097-BE4954AB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1A5-87FB-4027-8A2C-F4712A76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96D-65BC-4D78-A90F-4C4C4795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050-8B7B-453B-874D-967C4C37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F33-A436-4410-A9B7-F3BE1544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045A-83A2-49E9-8F00-E9EEE870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D5EB-263F-4967-B049-4757F89D63EB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87560" y="580068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10000" y="26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455760"/>
          <a:ext cx="124984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5760"/>
                    <a:ext cx="124984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53800" y="5610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312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19652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4368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90280" y="17985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616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789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89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73080" y="47912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63920" y="4791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8640" y="417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06520" y="312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330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1880" y="3997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93080" y="417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6264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0440" y="31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92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61920" y="698400"/>
          <a:ext cx="1270008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1920" y="698400"/>
                    <a:ext cx="1270008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355040" y="556272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276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04800" y="2232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72080" y="22320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96080" y="22320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508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724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9500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316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97400" y="21049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65120" y="21049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1840" y="210348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40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992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5200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01360" y="3720960"/>
            <a:ext cx="6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9328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6016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51040" y="410688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3498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558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3208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9236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860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31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3364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64168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4168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281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281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2795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726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754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554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868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95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44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8592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8592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2398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2398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2398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1462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1462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1476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43888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87920" y="542448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9068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96600" y="49179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145728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7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933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40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02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04160" y="5397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07560" y="54259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79000" y="5450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421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6012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91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70720" y="5954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88120" y="4692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1440" y="3719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43680" y="3035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21120" y="46641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09680" y="3519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44560" y="3238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578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4240" y="1820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6280" y="4994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4240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19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7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72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618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1360" y="1744560"/>
          <a:ext cx="1174428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744560"/>
                    <a:ext cx="1174428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66760" y="17254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5200" y="1725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29360" y="17254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85280" y="16066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6320" y="16066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46800" y="160812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0920" y="54687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8680" y="547056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46680" y="49957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4040" y="4676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3328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35000" y="499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31800" y="45496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9560" y="2255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560" y="54687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687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6800" y="2660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8400" y="3808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896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83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03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28920"/>
          <a:ext cx="8481960" cy="45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28920"/>
                    <a:ext cx="848196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4680" y="58672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412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867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438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29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95480" y="3486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15908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1943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140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8560" y="2397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03560" y="3089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39840" y="3178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4520" y="202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2435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63216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19120" y="1150920"/>
          <a:ext cx="911844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150920"/>
                    <a:ext cx="9118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1180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4796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3876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25360" y="283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16200" y="2427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84480" y="3260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78200" y="2948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720" y="35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50000" y="3432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2160" y="649440"/>
          <a:ext cx="917712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649440"/>
                    <a:ext cx="917712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3652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9472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3876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244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840" y="2475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2960" y="2941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3520" y="2684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412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0880" y="348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01400" y="2017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1200" y="255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1480" y="3110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49160" y="2265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0800" y="2786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38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2000" y="5705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3084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97640" y="326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784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240" y="512640"/>
          <a:ext cx="122378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512640"/>
                    <a:ext cx="122378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69360" y="576252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4536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20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3876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6680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8116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7082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22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3360" y="3611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35720" y="3697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2240" y="30225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9400" y="3247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660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704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516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2356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2360" y="26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000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9520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5744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57240" y="541440"/>
          <a:ext cx="119793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41440"/>
                    <a:ext cx="119793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925200" y="5624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0280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20797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86440" y="27176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04600" y="19130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37720" y="2575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3560" y="4875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2720" y="487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30000" y="4876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7240" y="4876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120" y="2700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93680" y="324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272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62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9568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48200" y="2986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8968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40840" y="395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1T16:54:00Z</cp:lastPrinted>
  <dcterms:modified xsi:type="dcterms:W3CDTF">1999-02-26T20:32:36Z</dcterms:modified>
  <cp:revision>128</cp:revision>
  <dc:subject/>
  <dc:title>Gráfica 1 Prevalencia de Uso de Tabaco  Alguna Vez</dc:title>
</cp:coreProperties>
</file>