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5DF-3D63-48A2-A5B9-F5FCF123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586-C7A3-4127-94A0-2FD1AE7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731-8C2E-4406-B588-8E0B7D46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718-27C9-48BB-806C-9916DDC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E5E-1C82-4C59-8A02-7B7CF30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270-49C7-4C41-A6D6-0197D61A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206-9579-4597-AF02-5CDBAC5D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E18-B384-404D-AD3E-0DE543C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442-51A0-4752-91BB-91A1DA21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6D0-EA5D-49C9-B4B1-C3BD902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3F9-7F26-44FC-B2B8-68484BF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449-9489-48F0-B6EF-58E3D58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70A-CDE3-40BE-A30F-DC61E4CBAE8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455760"/>
          <a:ext cx="13276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455760"/>
                    <a:ext cx="13276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83320" y="5553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16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44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80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168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50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55404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55404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97240" y="561960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104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916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17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3050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3050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3036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62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960" y="3933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1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2432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45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6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7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34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37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432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76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193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1288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288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ó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ó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064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988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3497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530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85840" y="114300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14300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40240" y="45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32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308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4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868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235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205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316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068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35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496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840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87680"/>
          <a:ext cx="1217592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87680"/>
                    <a:ext cx="121759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280" y="49100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05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11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9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7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29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5760" y="58104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57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3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71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520" y="3006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8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186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9528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117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849240"/>
          <a:ext cx="888048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849240"/>
                    <a:ext cx="888048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3164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319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124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2189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85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240" y="265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400" y="36846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552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28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408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86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5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12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41440"/>
          <a:ext cx="128444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28444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9708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5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26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1360" y="8841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8841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960" y="56815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92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5081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3003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41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60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288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304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32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360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33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548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83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25:31Z</dcterms:modified>
  <cp:revision>268</cp:revision>
  <dc:subject/>
  <dc:title>Gráfica 1 Prevalencia de Uso de Tabaco  Alguna Vez</dc:title>
</cp:coreProperties>
</file>