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02F-5A70-4E42-A2FC-40E70550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135-A97F-467E-BEC5-A515984A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5AC-6747-440C-B3BA-2FA7E1C1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2CE-AEE0-487D-B567-D1664DA9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D5B-7C43-48AC-88E1-14AC90C5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09A-4A64-435B-A3B2-65B7507A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002-A58D-4615-A6F6-41F8AFC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04B-BE21-4FAA-BA34-732A162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1D9-5C2F-4DD6-AF08-AA8482C3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DE8-74B6-4651-8E35-36FF4B22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3E4-711F-45E1-B853-AC3B6433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E09-BBF0-437F-AC2C-8AB8363C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4A45-9EF3-40E5-8420-D6C99E45FB6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5876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352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42920" y="369720"/>
          <a:ext cx="12985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369720"/>
                    <a:ext cx="12985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4080" y="5581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8740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7824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21000" y="2611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874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623556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0160" y="525600"/>
          <a:ext cx="132159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525600"/>
                    <a:ext cx="132159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480" y="55339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035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035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51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973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764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764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750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616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619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20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792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31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064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637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98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38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3556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668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583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73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6436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66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3774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3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34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24360" y="3062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664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83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092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21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697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640728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4077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4077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8160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7476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2540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0080" y="2284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20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2956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76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280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7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26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638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236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38600" y="2219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68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68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06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20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568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91960" y="763560"/>
          <a:ext cx="90806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763560"/>
                    <a:ext cx="90806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5000" y="184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13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08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89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120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256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164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0520" y="2351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23720" y="292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568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3640" y="57625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00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6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8440" y="455760"/>
          <a:ext cx="128426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455760"/>
                    <a:ext cx="12842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61960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548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680" y="326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4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38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35560"/>
            <a:ext cx="795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160" y="712800"/>
          <a:ext cx="123523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12800"/>
                    <a:ext cx="123523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2952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193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6892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0271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546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352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5268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600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400" y="241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79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11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877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38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054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6:10Z</dcterms:modified>
  <cp:revision>205</cp:revision>
  <dc:subject/>
  <dc:title>Gráfica 1 Prevalencia de Uso de Tabaco  Alguna Vez</dc:title>
</cp:coreProperties>
</file>