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645-04D8-4F60-A5AD-61235F1E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EB5-6104-4101-9D78-22A3C5F1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D04-5BA8-476F-9AB5-C4956829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B7F-DA59-4639-8083-3C23DFE7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CF3-14B2-4165-9C6E-E94F8160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7FE-D0DE-4D36-83F1-3DB6846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186-EBE0-4400-AF3A-AF31A75F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1AD-6F1D-48CD-9988-B632CA1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8F8-0099-492A-9E02-8184158E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530-C27B-4BF2-82BF-4C02734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3B3-4995-492E-B0CF-6BE9607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DD1-3404-4714-AAE6-590E0AD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4456-6D03-48AA-8E45-305368F89B41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6865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610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987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808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2814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2814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40040" y="55818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00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4960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326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771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5492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2560" y="630864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33280" y="353880"/>
          <a:ext cx="13103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3280" y="353880"/>
                    <a:ext cx="13103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97640" y="536256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53341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688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360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849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149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49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576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17868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0684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84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296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168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04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386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240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364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9996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4760" y="49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8212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0576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3784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3432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1376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355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1240" y="454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7320" y="3433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4400" y="297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7000" y="452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240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16120" y="3181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2240" y="485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692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840" y="4011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960" y="643572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57240" y="1601640"/>
          <a:ext cx="1258092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125809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3816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7660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076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5668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772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820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707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768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88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7792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7420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812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8200" y="2517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700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0548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352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08080" y="47242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29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88840" y="1365120"/>
          <a:ext cx="82551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365120"/>
                    <a:ext cx="82551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8320" y="5667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2980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988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24280" y="26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3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02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6880" y="3371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6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971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86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482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482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482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26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242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960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71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752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35004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49544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00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3690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353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97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16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892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1880" y="2776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62280" y="2081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9680" y="21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5004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3820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3820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331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232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9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20592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20592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1166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48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08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076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86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5000" y="3713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0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8532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560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328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492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56340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73760" y="5634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440" y="484200"/>
          <a:ext cx="129016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484200"/>
                    <a:ext cx="129016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840" y="56484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76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11920" y="3079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29600" y="2847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57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1448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96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800" y="5567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0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40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584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95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0224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56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17:25:56Z</cp:lastPrinted>
  <dcterms:modified xsi:type="dcterms:W3CDTF">1999-02-26T20:09:23Z</dcterms:modified>
  <cp:revision>74</cp:revision>
  <dc:subject/>
  <dc:title>Gráfica 1 Prevalencia de Uso de Tabaco  Alguna Vez</dc:title>
</cp:coreProperties>
</file>