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66B-65A7-41B3-A0E1-F706D352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CCE-B7F3-4AF3-B4FD-DBFD7F76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E53-FAD2-4FDF-B4FB-80DE1A0E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7AD-FAF7-40F4-882E-5D6735F5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54A-CD0C-4B29-96D4-006D458B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353-35F8-4315-95C6-0F6C9536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778-D211-4DE7-9DD7-77C37FB6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697-5F11-4D41-B919-EB426566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2DE-94B2-46DD-8870-03A0CB98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55E-DFD3-4A80-AE35-1F577A8E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069-955B-4112-B296-722DF932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652-610A-408D-B23E-4FCA4FBD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2EE3-2ABC-4833-9F0D-BA00A136657E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9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6360" y="39852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39852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09600" y="5553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211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70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0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92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82520" y="582480"/>
          <a:ext cx="129585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520" y="582480"/>
                    <a:ext cx="129585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11560" y="55054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388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1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77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1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208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192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5600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600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21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7868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554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130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8592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8592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861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54296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46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5668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976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7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56600" y="59976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349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9536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6500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62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7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9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68768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768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118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95920" y="54133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3560" y="49388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248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896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313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0800" y="54118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7160" y="54118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4404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756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06160" y="366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568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0640" y="5867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95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7200" y="196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71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804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106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524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62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97160" y="179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1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280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0560" y="1208160"/>
          <a:ext cx="89744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208160"/>
                    <a:ext cx="89744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07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815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188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2724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97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4504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3552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4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5960" y="762120"/>
          <a:ext cx="879804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762120"/>
                    <a:ext cx="87980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22160" y="52592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9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0120" y="52912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9120" y="23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2780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272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5520" y="57340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1360" y="684360"/>
          <a:ext cx="12263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84360"/>
                    <a:ext cx="12263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54120" y="579132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708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808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3816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1400" y="3868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965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8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78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5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78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96840" y="2841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4160" y="290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0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000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12800"/>
          <a:ext cx="12492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0"/>
                    <a:ext cx="12492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38200" y="5624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654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98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17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076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424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4444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288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38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3880" y="3897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844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9:22:50Z</dcterms:created>
  <dc:creator>JORGE VILLATORO</dc:creator>
  <dc:description/>
  <dc:language>en-US</dc:language>
  <cp:lastModifiedBy>Liliana</cp:lastModifiedBy>
  <cp:lastPrinted>1999-02-10T17:33:10Z</cp:lastPrinted>
  <dcterms:modified xsi:type="dcterms:W3CDTF">1999-02-26T20:23:43Z</dcterms:modified>
  <cp:revision>24</cp:revision>
  <dc:subject/>
  <dc:title>Sin título de diapositiva</dc:title>
</cp:coreProperties>
</file>