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B78A-2417-441F-8B0F-6EB00E144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756C-8733-40F4-9BCA-1DDD8C52D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22C8-9ED5-4A0D-850E-65D3BBA91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06FB-7CA3-4208-B5E3-7E23C7F70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77B0-8314-43EE-8CFC-DD9DDE9CE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CBE4-1C00-441B-AC99-EE2561ACC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CEC5-5D18-4E84-BC7F-B979856F3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A766-FFA7-410A-842F-6E223E81F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26F7-E566-4833-B96B-7904D3422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2BFB-0C87-4F03-BC83-F0E20FAB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C177-BF65-4703-AE8F-84EE5EA7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79D4-D497-4713-987B-9C841771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F8706-76CC-4C61-A4C4-D5E88595B45D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520" y="1409760"/>
          <a:ext cx="8153280" cy="43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9760"/>
                    <a:ext cx="815328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915840" y="5800680"/>
            <a:ext cx="34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. Contre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67200" y="5800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24120" y="2467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5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77000" y="2441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5200" y="361800"/>
            <a:ext cx="480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de Uso de Taba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Uso Alguna V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47640" y="6292800"/>
            <a:ext cx="8012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agdalena Contreras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5480" y="58068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0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-114480" y="515880"/>
          <a:ext cx="12928680" cy="42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4480" y="515880"/>
                    <a:ext cx="12928680" cy="42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982080" y="558180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. Contre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688800" y="558180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19840" y="173664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29560" y="220356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76160" y="156996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52040" y="206064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6840" y="461808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23560" y="461808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87560" y="461952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263720" y="461952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62040" y="37702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68640" y="397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392200" y="2840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57320" y="29894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5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67560" y="38257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307200" y="39416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05560" y="2728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983360" y="30178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9040" y="6292800"/>
            <a:ext cx="8012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agdalena Contreras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480" y="263160"/>
            <a:ext cx="8574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1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-262080" y="582480"/>
          <a:ext cx="13161960" cy="467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62080" y="582480"/>
                    <a:ext cx="13161960" cy="46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1011600" y="5562720"/>
            <a:ext cx="1793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. Contrer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31200" y="553392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90680" y="214632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57600" y="214632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81600" y="214632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960" y="488484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44320" y="488484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39800" y="488484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52240" y="488484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83240" y="488484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10400" y="488484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82920" y="2019240"/>
            <a:ext cx="16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50640" y="2019240"/>
            <a:ext cx="1569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57720" y="2017800"/>
            <a:ext cx="156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74040" y="31496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6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9760" y="3720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09080" y="3990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672920" y="354960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34640" y="37908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21920" y="40766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28160" y="34354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74480" y="38070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65000" y="40784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24480" y="340668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46240" y="3720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906520" y="40766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512760" y="35496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88960" y="38070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149600" y="41353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784640" y="36068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128800" y="38926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419320" y="41353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76440" y="6235560"/>
            <a:ext cx="797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agdalena Contreras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18960" y="1119240"/>
            <a:ext cx="85741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Edad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0" y="2641680"/>
          <a:ext cx="12238200" cy="31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41680"/>
                    <a:ext cx="12238200" cy="31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424160" y="237492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91080" y="237492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15080" y="237492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15680" y="219564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83040" y="219564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89400" y="219384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54520" y="566244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5 años o m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80320" y="566424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6 años o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5680" y="44686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92560" y="45831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316320" y="44402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92800" y="3354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15320" y="3954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8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037640" y="40165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90400" y="6292800"/>
            <a:ext cx="799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agdalena Contreras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55680" y="43812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Gráfica 13</a:t>
            </a: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olerancia Social al Uso de Sustancia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-343080" y="1143000"/>
          <a:ext cx="13390920" cy="46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43080" y="1143000"/>
                    <a:ext cx="13390920" cy="46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1031760" y="11826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5920" y="118260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37280" y="118260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49200" y="108900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b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84880" y="108900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Ni  bien ni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381360" y="1090440"/>
            <a:ext cx="14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-34920" y="5267160"/>
            <a:ext cx="13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002240" y="5281560"/>
            <a:ext cx="16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33440" y="485136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39360" y="46609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6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34200" y="1428840"/>
            <a:ext cx="8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3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024400" y="47912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920000" y="40608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2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27880" y="21128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4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175560" y="531180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278960" y="534024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79000" y="527832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607880" y="530712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25760" y="592596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Taba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984480" y="590544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442280" y="589752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ro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74160" y="45212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53000" y="34052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0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000760" y="30924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9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020600" y="44640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1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452600" y="32338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44720" y="32958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3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350160" y="485136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723480" y="4378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00600" y="17636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84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7840" y="48229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08080" y="39546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5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41520" y="22273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2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0400" y="6350040"/>
            <a:ext cx="799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agdalena Contreras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404640" y="40968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4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ercepción de Riesgo Asociada al Uso de Sustanci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-200160" y="1630440"/>
          <a:ext cx="12668400" cy="42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00160" y="1630440"/>
                    <a:ext cx="12668400" cy="42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1081080" y="161136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719520" y="161136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43680" y="161136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99600" y="1492200"/>
            <a:ext cx="198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No 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50640" y="1492200"/>
            <a:ext cx="163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261120" y="1494000"/>
            <a:ext cx="22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muy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542120" y="5526000"/>
            <a:ext cx="17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738840" y="5527800"/>
            <a:ext cx="142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eroí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903720" y="488160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053840" y="44197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4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747560" y="2139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4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63440" y="48798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17320" y="4321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684040" y="22273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16520" y="5526000"/>
            <a:ext cx="165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Fumar 5 ó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igarrill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424240" y="5526000"/>
            <a:ext cx="189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so Frecu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Alcoh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701120" y="25462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04080" y="46674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6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91360" y="3637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8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642320" y="3119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4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650320" y="47242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98080" y="3691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7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661560" y="3032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7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19040" y="6321600"/>
            <a:ext cx="8037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agdalena Contreras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62040" y="1500120"/>
          <a:ext cx="848196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1500120"/>
                    <a:ext cx="848196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449000" y="5867280"/>
            <a:ext cx="194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. Co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e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72560" y="586728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95400" y="28954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4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52560" y="2809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6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14880" y="2695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81760" y="295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9200" y="6292800"/>
            <a:ext cx="797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agdalena Contreras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Nivel Esc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04640" y="1330200"/>
          <a:ext cx="833940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1330200"/>
                    <a:ext cx="833940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66720" y="577224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nd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19360" y="577224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hille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81560" y="577224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66680" y="30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8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952720" y="19335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43360" y="222876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57440" y="30956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1990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67320" y="1990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4720" y="6292800"/>
            <a:ext cx="8024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agdalena Contreras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Tiempo Dedicado a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36680" y="1357200"/>
          <a:ext cx="9113760" cy="43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680" y="1357200"/>
                    <a:ext cx="9113760" cy="43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849600" y="547704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No estudi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981880" y="5477040"/>
            <a:ext cx="13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studi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½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25000" y="5477040"/>
            <a:ext cx="215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studi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08160" y="2428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25600" y="20541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275080" y="2803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1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85960" y="2195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55960" y="2109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13360" y="2744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04720" y="6350040"/>
            <a:ext cx="7986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agdalena Contreras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5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Por Tiempo Dedicado al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38080" y="1638360"/>
          <a:ext cx="7925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38360"/>
                    <a:ext cx="7925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068480" y="548640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No trabaj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87560" y="545472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rabajó 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86680" y="5438880"/>
            <a:ext cx="22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rabaj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82760" y="2921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2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43160" y="21398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72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30560" y="2635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7560" y="2890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47960" y="2224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78480" y="2313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1960" y="6350040"/>
            <a:ext cx="815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agdalena Contreras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6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1380960"/>
          <a:ext cx="86569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380960"/>
                    <a:ext cx="86569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983160" y="5662440"/>
            <a:ext cx="16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19320" y="566244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10120" y="566244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82760" y="2717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1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01680" y="25988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13080" y="31748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06800" y="30621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73640" y="35892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9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06880" y="3546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6280" y="6292800"/>
            <a:ext cx="7961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agdalena Contreras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7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4920" y="649440"/>
          <a:ext cx="9315360" cy="464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649440"/>
                    <a:ext cx="9315360" cy="46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64960" y="5202360"/>
            <a:ext cx="127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80400" y="519732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95640" y="519732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98120" y="519732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7600" y="21607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3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37280" y="2712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13880" y="237024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04120" y="28335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8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70880" y="3255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9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29840" y="20178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99640" y="2522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59920" y="30812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06040" y="22366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09240" y="2814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9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01560" y="3389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7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1280" y="5676840"/>
            <a:ext cx="1793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. Contrer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16880" y="567684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9560" y="323388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1800" y="6292800"/>
            <a:ext cx="805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agdalena Contreras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8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-142920" y="541440"/>
          <a:ext cx="1321740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2920" y="541440"/>
                    <a:ext cx="1321740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182960" y="5676840"/>
            <a:ext cx="1793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. Contrer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88440" y="564840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280" y="478296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31000" y="480060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50400" y="484020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67360" y="481176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09520" y="480204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881120" y="481176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19840" y="165096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29560" y="214632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78680" y="150804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82640" y="20271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9240" y="3497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0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92800" y="36687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6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12080" y="2708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7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00960" y="29908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1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85040" y="32338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5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74280" y="34653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0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23760" y="34336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880960" y="3638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625440" y="2698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8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142760" y="27590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895520" y="3147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85840" y="34653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0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47840" y="6292800"/>
            <a:ext cx="797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agdalena Contreras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9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-114480" y="712800"/>
          <a:ext cx="1293048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4480" y="712800"/>
                    <a:ext cx="1293048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982080" y="556740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. Contre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46040" y="553896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19840" y="205092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29560" y="254628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76160" y="188424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80480" y="240336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2360" y="504684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95640" y="50468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58760" y="504828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78920" y="5048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4800" y="2614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50920" y="3189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9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1320" y="3583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30320" y="40273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824440" y="2610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76960" y="31291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404120" y="3811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983720" y="41259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90400" y="6292800"/>
            <a:ext cx="7986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agdalena Contreras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21T20:50:32Z</dcterms:created>
  <dc:creator>Liliana</dc:creator>
  <dc:description/>
  <dc:language>en-US</dc:language>
  <cp:lastModifiedBy>Liliana</cp:lastModifiedBy>
  <cp:lastPrinted>1998-12-23T22:13:43Z</cp:lastPrinted>
  <dcterms:modified xsi:type="dcterms:W3CDTF">1999-02-26T20:19:15Z</dcterms:modified>
  <cp:revision>191</cp:revision>
  <dc:subject/>
  <dc:title>Gráfica 1 Prevalencia de Uso de Tabaco  Alguna Vez</dc:title>
</cp:coreProperties>
</file>