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C6D-F5F9-4E69-8836-41755170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E5C-27ED-40BA-A0DC-DBCA9B14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6CA-E2A7-4F01-A1A4-1150D8A4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637-4C2B-450D-BBB6-F69494F7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E14-98A5-4682-B31F-4E8379C3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744-048A-490C-9A20-4510A24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822-22F6-4FE2-844A-659DC57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417-72DF-4416-84ED-F26466E8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A98-96EB-4844-B6E6-CD4184E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605-A9E1-43C7-83C3-7A361E1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5BC-7F1D-4FE6-AA78-20B3BF3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6DB-39D0-4098-9036-82FF8B86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8E94-6A27-47B8-8256-6C97370E699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320" y="598320"/>
          <a:ext cx="12382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598320"/>
                    <a:ext cx="12382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67040" y="57243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8751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932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9338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5120" y="4933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20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416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428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356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19160" y="439560"/>
          <a:ext cx="127238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9160" y="439560"/>
                    <a:ext cx="127238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83000" y="541980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391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8604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208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9592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4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616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160" y="2835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387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032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63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39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7016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8624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479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0890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0890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1938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193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19368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66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354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40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30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5748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5748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905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402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39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92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2948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921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672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4010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726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598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8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5680" y="171612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71612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300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440" y="49579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39560" y="45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7640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7760" y="4937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4400" y="446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388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631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2760" y="334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2400" y="1560600"/>
          <a:ext cx="84819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560600"/>
                    <a:ext cx="84819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19640" y="5867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9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2840" y="2019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4316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4316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33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339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5339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317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120" y="2568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5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597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2120" y="194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720" y="1298520"/>
          <a:ext cx="88012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298520"/>
                    <a:ext cx="8801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2592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208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174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6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844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33440" y="1020600"/>
          <a:ext cx="87105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020600"/>
                    <a:ext cx="87105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93560" y="55069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538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600" y="153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08800" y="1998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6600" y="2398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996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5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36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532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5600" y="342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579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129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7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8723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8723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4680" y="2633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657360"/>
          <a:ext cx="12546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57360"/>
                    <a:ext cx="12546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8640" y="55627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25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04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880" y="202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290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7240" y="349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480" y="912960"/>
          <a:ext cx="12438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12960"/>
                    <a:ext cx="12438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600" y="5710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400" y="524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9760" y="524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5248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35800" y="524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720" y="212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404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2680" y="321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02040" y="4427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80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160" y="3328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/>
  <dc:description/>
  <dc:language>en-US</dc:language>
  <cp:lastModifiedBy>Liliana</cp:lastModifiedBy>
  <cp:lastPrinted>1998-12-23T22:13:43Z</cp:lastPrinted>
  <dcterms:modified xsi:type="dcterms:W3CDTF">1999-02-26T18:19:14Z</dcterms:modified>
  <cp:revision>133</cp:revision>
  <dc:subject/>
  <dc:title>Gráfica 1 Prevalencia de Uso de Tabaco  Alguna Ve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Villatoro, J., Medina-Mora, M.E., Cardiel, H., Alcántar, E., Fleiz, C., Parra, J., Navarro, C. Néquiz, G. (1999). Consumo de Drogas, Alcohol y Tabaco en Estudiantes del Distrito Federal: medición otoño 1997. Reporte General del DF. SEP, IMP, México.</vt:lpwstr>
  </property>
  <property fmtid="{D5CDD505-2E9C-101B-9397-08002B2CF9AE}" pid="13" name="OutputDir">
    <vt:lpwstr>C:\cnavarro\Enuesta1997\REPORTE\Delegaciones\BenitoJua\Benitht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