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E4F-DA0E-4467-A262-EA5ACC20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B78-A018-4789-8866-9A056A8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A37-B744-41B7-9B51-D374159A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B6D-4976-43FD-B16F-3491059D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09A-4AC4-4A59-9482-BBCC3C5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816-F8D6-4710-8ED3-E02A7BC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44D-8D79-4FF8-A455-6C83778E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7D3-AD3E-4325-A611-756425E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7D1-AFFA-42C4-BA96-4A3C40DD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888-BE8B-492A-995F-31D2DFD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D24-1642-4C57-A667-414E3F3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D6D-492B-42F9-9132-B703CE0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2BE-E008-416F-843E-54DC848D9AB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23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80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3074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3074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96200" y="5667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252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29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4960" y="266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284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280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978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8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1317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131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4360" y="55339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0156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7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76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7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5200" y="4019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42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860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312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220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15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0712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7032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032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5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2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3160" y="418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80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4766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4766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556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0760" y="4734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13920" y="24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25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7000" y="355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600" y="3868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30440"/>
          <a:ext cx="12206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0440"/>
                    <a:ext cx="12206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38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794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40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48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44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0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91400" y="5810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9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452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371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04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171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96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22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160" y="28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81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3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62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4880" y="2178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9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68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677880"/>
          <a:ext cx="89755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77880"/>
                    <a:ext cx="89755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880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280" y="2103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98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13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02840" y="322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920" y="2928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5880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4360" y="57625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56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900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85680" y="484200"/>
          <a:ext cx="12931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484200"/>
                    <a:ext cx="12931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480" y="564840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65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60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22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41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360" y="2536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252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880" y="3176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2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800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26920"/>
          <a:ext cx="124682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26920"/>
                    <a:ext cx="124682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81920" y="5681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728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89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346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996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016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428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2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344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0160" y="26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3243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5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8356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96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7:48Z</dcterms:modified>
  <cp:revision>152</cp:revision>
  <dc:subject/>
  <dc:title>Gráfica 1 Prevalencia de Uso de Tabaco  Alguna Vez</dc:title>
</cp:coreProperties>
</file>