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27A-0BA1-4478-B8C7-1D8DC905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ABA-606C-45B2-AB34-A622DBF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05C-C026-4A2C-95B5-6CC4AA4A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ABF-24C4-44A1-9471-2CB30CE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F1C-0CE4-4D11-BCB3-7E958E60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311-4B88-4B90-861C-A754315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998-4E50-472D-887D-47CD177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A36-7899-4361-B299-62A9BE3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E3A-A22D-4DAD-B450-9EBD347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052-E412-47DF-9669-968CD2A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E25-37D3-4AE0-899F-7A6162B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988-4A04-40CF-B354-803FDDF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3F3-150B-4CC0-9DB2-E02AC7B56D8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32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5920" y="56102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57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668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38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2039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584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57240" y="525600"/>
          <a:ext cx="125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25600"/>
                    <a:ext cx="125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41280" y="547704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552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03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03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2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448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996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2766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2766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2748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00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080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8240" y="33498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4006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35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44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2355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41520"/>
          <a:ext cx="1238256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1520"/>
                    <a:ext cx="123825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6035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6035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6035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52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52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512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43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8048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11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78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273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0024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0024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816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204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81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20880" y="4146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040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220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04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11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84880" y="590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95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06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202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56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2920" y="1773360"/>
          <a:ext cx="120902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73360"/>
                    <a:ext cx="120902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686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686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686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4944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494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508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50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672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50245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62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5022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472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648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40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580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38600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38600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06960" y="581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844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29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581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24452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4452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02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2657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4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720" y="211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5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840" y="54579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259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100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111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06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9640" y="1182600"/>
          <a:ext cx="879156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182600"/>
                    <a:ext cx="879156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748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9640" y="22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0480" y="248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8760" y="277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40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7760" y="34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0680" y="907920"/>
          <a:ext cx="86533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907920"/>
                    <a:ext cx="86533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7960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00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00" y="17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604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2640" y="21700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8400" y="2747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427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436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014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000" y="356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440" y="57484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748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2280" y="2976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398520"/>
          <a:ext cx="123555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398520"/>
                    <a:ext cx="123555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720" y="57340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59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6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0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24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2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19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200" y="23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719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960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8572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312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4124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4124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97480" y="5710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45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720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071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79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2400" y="3840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9:16:57Z</cp:lastPrinted>
  <dcterms:modified xsi:type="dcterms:W3CDTF">1999-02-26T20:30:35Z</dcterms:modified>
  <cp:revision>135</cp:revision>
  <dc:subject/>
  <dc:title>Gráfica 1 Prevalencia de Uso de Tabaco  Alguna Vez</dc:title>
</cp:coreProperties>
</file>