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0D6-8D9C-4050-B75A-5965EA6F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A79-4C1A-48C2-98BD-0A416A5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501-4E05-497E-8785-AC91FDFD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D4F-2174-4291-ADAC-ECCE47DC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B5E-7F62-4A90-AD1B-7FBDADD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90B-8CA8-4358-B4D9-1F2C162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239-AB99-42FA-A485-E0015EC0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B7C-6F6A-470A-A06B-405C57B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3E1-29D1-430F-AD88-E95F53AD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9F5-97C3-47DE-8593-9021C299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6B7-7511-439E-99B0-3D71B01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4E3-BCE5-406E-8B50-26D7486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000-D6B8-49FB-9526-7F5C5E792F7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23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804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3074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3074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96200" y="5667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252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29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4960" y="266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284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280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978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48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1317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131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4360" y="55339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0156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7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76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7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5200" y="4019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42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860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312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220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15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0712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7032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7032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55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726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3160" y="418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80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4766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4766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556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80760" y="4734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60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13920" y="2427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25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7000" y="355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600" y="3868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30440"/>
          <a:ext cx="12206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0440"/>
                    <a:ext cx="12206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38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794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40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48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644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0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91400" y="5810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9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704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452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371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04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171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96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22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160" y="28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81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3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62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44880" y="2178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9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68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677880"/>
          <a:ext cx="89755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677880"/>
                    <a:ext cx="89755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880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280" y="2103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98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13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02840" y="322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920" y="2928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5880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4360" y="57625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256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900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85680" y="484200"/>
          <a:ext cx="12931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484200"/>
                    <a:ext cx="12931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480" y="564840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6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65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60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22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41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360" y="2536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7252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880" y="3176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2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800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26920"/>
          <a:ext cx="124682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26920"/>
                    <a:ext cx="124682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81920" y="5681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1728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89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346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0996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016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6428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2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344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0160" y="26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3243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75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8356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96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7:48Z</dcterms:modified>
  <cp:revision>152</cp:revision>
  <dc:subject/>
  <dc:title>Gráfica 1 Prevalencia de Uso de Tabaco  Alguna Vez</dc:title>
</cp:coreProperties>
</file>