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E35-C14A-4642-B096-901C26E0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1FB-09C9-4EAB-B105-ED2344DE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85A-0C84-499F-B378-4BA5F733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D0B-55BD-43C3-8D21-5946F7AD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29E-E650-4793-AE6A-BE6DAD2F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237-D529-4D66-B29D-75077CB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ED3-6FDD-43E6-9E4E-F80EF91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181-6596-440C-A8E6-AFD66BAA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E86-9267-40E0-8FE0-B23CF68B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4A1-9D20-432A-981D-43AE52C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86A-BE28-43AB-B23C-FAA34C4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E1C-E27E-44D1-BF4D-F8F50A0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4C8-BC49-44E5-8AE4-175AE8F7F7B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5876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352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42920" y="369720"/>
          <a:ext cx="12985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369720"/>
                    <a:ext cx="12985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4080" y="5581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740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824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1000" y="261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874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623556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0160" y="525600"/>
          <a:ext cx="132159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525600"/>
                    <a:ext cx="13215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480" y="55339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035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035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51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973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764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764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750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16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619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20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92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1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064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637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8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38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3556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668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583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7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6436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6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3774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3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24360" y="3062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66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83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092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21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697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640728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4077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4077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7476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2540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0080" y="2284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20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2956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76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80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7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26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638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8600" y="221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68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68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06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20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1960" y="763560"/>
          <a:ext cx="90806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63560"/>
                    <a:ext cx="90806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5000" y="184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13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08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89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120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256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164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0520" y="2351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3720" y="292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568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3640" y="57625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00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8440" y="455760"/>
          <a:ext cx="128426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455760"/>
                    <a:ext cx="12842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61960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548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680" y="326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4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38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35560"/>
            <a:ext cx="79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160" y="712800"/>
          <a:ext cx="12352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12800"/>
                    <a:ext cx="12352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2952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193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6892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027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546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352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5268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600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241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79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77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54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6:10Z</dcterms:modified>
  <cp:revision>205</cp:revision>
  <dc:subject/>
  <dc:title>Gráfica 1 Prevalencia de Uso de Tabaco  Alguna Vez</dc:title>
</cp:coreProperties>
</file>