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2B4-5C19-46D0-95CA-64D5FDF7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6CEF-5D0C-4561-9430-A0D58305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BD7F-6052-4E79-AA4E-E74DD5F8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52D-0748-47B5-841D-E34B50DE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374-6F94-4B2D-BF71-81EEB1A1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1383-244E-4EAD-B73F-38C97D58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F32-DFCF-4C6B-956A-9C4782E9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97C8-38AA-4940-B2E3-438225B1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BE5B-77A9-437E-ABF9-5872673E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A758-32FE-4217-ABB1-8C8930A8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5C8-F0F9-49C8-9B4B-F3B1D33D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9847-9496-4972-A6A5-1BD97C24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425D-9495-4B65-910B-3C504DDA6F27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5680" y="249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257040" y="341280"/>
          <a:ext cx="131904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7040" y="341280"/>
                    <a:ext cx="131904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24120" y="558180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684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3920" y="46753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95120" y="46753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7560" y="46767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78040" y="4676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9120" y="3855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4004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63600" y="2782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3360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67560" y="3882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7876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34360" y="272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12160" y="2989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4840" y="468360"/>
          <a:ext cx="1307484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4840" y="468360"/>
                    <a:ext cx="1307484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39840" y="5477040"/>
            <a:ext cx="14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02760" y="54482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604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604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604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2628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6824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224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5444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884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3372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3372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3192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248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80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9512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188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50720" y="4105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7912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5680" y="32925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63760" y="396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4156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1776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528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55840" y="346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2880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4812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628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-371520" y="2298600"/>
          <a:ext cx="130176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1520" y="2298600"/>
                    <a:ext cx="130176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750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750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750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4242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4242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4224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25720" y="554832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66160" y="5549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97080" y="4325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06720" y="435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3084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64360" y="3983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51760" y="3987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78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5568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228680"/>
          <a:ext cx="1339092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228680"/>
                    <a:ext cx="1339092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3176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592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3728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4920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488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8136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532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3068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33440" y="49370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9360" y="4775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42884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87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91560" y="3975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2557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8968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64640" y="53690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6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3355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8520" y="59547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13280" y="59626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85040" y="59832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59680" y="45784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24560" y="3376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72840" y="31780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63880" y="460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09840" y="30909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87480" y="3438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0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78600" y="4908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9416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2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44240" y="173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040" y="48798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4097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9960" y="2112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7840" y="640728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046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85680" y="1630440"/>
          <a:ext cx="125524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1630440"/>
                    <a:ext cx="125524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8108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1952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436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960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611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28160" y="552600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1760" y="55278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32160" y="48816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82640" y="43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47560" y="213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49120" y="485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03000" y="4378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2480" y="2141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6680" y="552600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81480" y="552600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011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856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06000" y="36939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99200" y="2948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9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36360" y="4809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5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90000" y="3060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628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90840" y="581040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66960" y="272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529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04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686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686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09800" y="31719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09960" y="22478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7840" y="200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0920" y="1857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1854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9400" y="2832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92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921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29040" y="2540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3680" y="1778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196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24080"/>
          <a:ext cx="8858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24080"/>
                    <a:ext cx="8858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53960" y="2803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13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84640" y="3317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3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16400" y="3817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17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04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6280" y="706320"/>
          <a:ext cx="8999640" cy="46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706320"/>
                    <a:ext cx="899964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9376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66080" y="52052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7200" y="52052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69680" y="52052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0520" y="2303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0200" y="2827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0760" y="2684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8980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56560" y="3855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8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58280" y="2075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8440" y="2608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59920" y="316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293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9240" y="2871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44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1080" y="5705640"/>
            <a:ext cx="14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16880" y="57056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2120" y="34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142920" y="512640"/>
          <a:ext cx="1310328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512640"/>
                    <a:ext cx="1310328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53960" y="5619600"/>
            <a:ext cx="14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8440" y="56196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8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412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472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3892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228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6700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48640" y="16509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21463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7120" y="1508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11080" y="2027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000" y="3468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5920" y="372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97600" y="3051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43720" y="2990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816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840" y="395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772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23720" y="361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68200" y="2670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5880" y="2759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0948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2860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28440" y="770040"/>
          <a:ext cx="1212372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440" y="770040"/>
                    <a:ext cx="1212372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038240" y="562464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31600" y="55958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20509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1524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1840" y="18842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6160" y="2403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360" y="5103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24280" y="510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1560" y="51055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50000" y="5105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9120" y="3071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3789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66840" y="4011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5000" y="4370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5292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62680" y="3186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03800" y="38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8376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7840" y="626436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5T16:59:06Z</cp:lastPrinted>
  <dcterms:modified xsi:type="dcterms:W3CDTF">1999-02-26T20:11:52Z</dcterms:modified>
  <cp:revision>221</cp:revision>
  <dc:subject/>
  <dc:title>Gráfica 1 Prevalencia de Uso de Tabaco  Alguna Vez</dc:title>
</cp:coreProperties>
</file>