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2248-8E9D-406B-845C-84A8D1298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C82E-F0B5-48D0-A65E-4BEB1E94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2C2E-8C0F-40FF-A1C3-F4E9F8026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A70F-87D3-4808-9E87-E06008B85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AAE9-4626-4BD6-AF90-34117739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641F-532C-4B48-94FC-34A05CDF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8710-D3DB-4021-8BFF-EB2DE4A4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6BB2-5284-482C-B3BD-C10B59C6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C6CB-9773-45AA-B796-F397ED8D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076E-8FDB-4462-9D88-D85D01FA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2A30-2E96-47F1-B5D0-706E53F8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D9ED-23F3-49B3-A6CE-C40AA830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30EB-0A98-468B-B071-B4A31F613290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915840" y="5800680"/>
            <a:ext cx="34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. Contr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67200" y="5800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24120" y="2467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7640" y="6292800"/>
            <a:ext cx="8012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114480" y="515880"/>
          <a:ext cx="12928680" cy="42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4480" y="515880"/>
                    <a:ext cx="1292868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982080" y="558180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. Contr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88800" y="55818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73664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20356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56996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06064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6840" y="461808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23560" y="461808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87560" y="461952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263720" y="461952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62040" y="37702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68640" y="397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92200" y="2840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57320" y="2989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5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67560" y="3825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07200" y="39416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05560" y="2728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983360" y="3017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9040" y="6292800"/>
            <a:ext cx="8012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262080" y="582480"/>
          <a:ext cx="13161960" cy="46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62080" y="582480"/>
                    <a:ext cx="13161960" cy="46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011600" y="5562720"/>
            <a:ext cx="179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. Contrer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31200" y="553392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14632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14632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14632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960" y="488484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44320" y="488484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39800" y="488484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52240" y="488484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83240" y="488484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10400" y="488484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201924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201924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201780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4040" y="31496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6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9760" y="372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09080" y="399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72920" y="354960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34640" y="37908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21920" y="40766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28160" y="34354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74480" y="3807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65000" y="4078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24480" y="340668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46240" y="372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06520" y="40766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12760" y="3549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88960" y="3807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49600" y="41353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784640" y="3606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128800" y="38926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419320" y="41353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76440" y="6235560"/>
            <a:ext cx="797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2641680"/>
          <a:ext cx="12238200" cy="31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41680"/>
                    <a:ext cx="12238200" cy="31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37492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37492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37492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19564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1956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19384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54520" y="566244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80320" y="566424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5680" y="44686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92560" y="45831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16320" y="44402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92800" y="3354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15320" y="3954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8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37640" y="40165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90400" y="6292800"/>
            <a:ext cx="799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55680" y="43812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43080" y="1143000"/>
          <a:ext cx="13390920" cy="46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43080" y="1143000"/>
                    <a:ext cx="1339092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031760" y="1182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5920" y="1182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37280" y="1182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49200" y="108900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84880" y="108900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81360" y="10904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-34920" y="526716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02240" y="528156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33440" y="485136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39360" y="4660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34200" y="142884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3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024400" y="4791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0000" y="40608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2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27880" y="21128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4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75560" y="531180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278960" y="534024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79000" y="527832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07880" y="530712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25760" y="592596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84480" y="590544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442280" y="589752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74160" y="45212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53000" y="34052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0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000760" y="30924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9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20600" y="4464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1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52600" y="32338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44720" y="32958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3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50160" y="48513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723480" y="4378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00600" y="17636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4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7840" y="4822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8080" y="39546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1520" y="22273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2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0400" y="6350040"/>
            <a:ext cx="799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0464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-200160" y="1630440"/>
          <a:ext cx="1266840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00160" y="1630440"/>
                    <a:ext cx="1266840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081080" y="16113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19520" y="16113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43680" y="161136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99600" y="149220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50640" y="149220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61120" y="149400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42120" y="552600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38840" y="552780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903720" y="488160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053840" y="4419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4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747560" y="2139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4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63440" y="48798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17320" y="4321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84040" y="2227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16520" y="552600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424240" y="552600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701120" y="2546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4080" y="4667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6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91360" y="3637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42320" y="3119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4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650320" y="4724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080" y="3691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7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61560" y="3032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7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9040" y="6321600"/>
            <a:ext cx="803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040" y="1500120"/>
          <a:ext cx="848196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500120"/>
                    <a:ext cx="848196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449000" y="5867280"/>
            <a:ext cx="194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. Co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72560" y="58672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95400" y="2895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4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52560" y="2809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6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6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81760" y="295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9200" y="6292800"/>
            <a:ext cx="797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330200"/>
          <a:ext cx="83394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330200"/>
                    <a:ext cx="83394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7722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77224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77224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30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8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52720" y="19335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43360" y="222876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095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99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199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4720" y="6292800"/>
            <a:ext cx="802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36680" y="1357200"/>
          <a:ext cx="9113760" cy="43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680" y="1357200"/>
                    <a:ext cx="911376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849600" y="547704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81880" y="547704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5000" y="547704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08160" y="2428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25600" y="2054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75080" y="2803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1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5596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1336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4720" y="6350040"/>
            <a:ext cx="7986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48640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7560" y="545472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6680" y="543888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82760" y="2921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2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43160" y="2139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2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30560" y="2635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890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13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1960" y="6350040"/>
            <a:ext cx="815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1380960"/>
          <a:ext cx="8656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80960"/>
                    <a:ext cx="8656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83160" y="566244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19320" y="566244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10120" y="566244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82760" y="2717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01680" y="2598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13080" y="3174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06800" y="3062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73640" y="35892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9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06880" y="3546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6280" y="6292800"/>
            <a:ext cx="7961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4920" y="649440"/>
          <a:ext cx="9315360" cy="46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649440"/>
                    <a:ext cx="9315360" cy="46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64960" y="520236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80400" y="519732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95640" y="519732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98120" y="519732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00" y="2160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3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7280" y="2712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13880" y="237024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04120" y="2833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70880" y="3255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9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29840" y="2017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99640" y="2522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59920" y="3081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06040" y="2236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09240" y="2814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01560" y="3389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5676840"/>
            <a:ext cx="179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. Contrer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16880" y="56768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9560" y="323388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1800" y="6292800"/>
            <a:ext cx="805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-142920" y="541440"/>
          <a:ext cx="1321740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2920" y="541440"/>
                    <a:ext cx="1321740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182960" y="5676840"/>
            <a:ext cx="179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. Contrer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88440" y="564840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280" y="478296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31000" y="480060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50400" y="484020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67360" y="481176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09520" y="48020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881120" y="48117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9840" y="16509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29560" y="214632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8680" y="150804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2640" y="20271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9240" y="3497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0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92800" y="3668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6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12080" y="2708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7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00960" y="2990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1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85040" y="3233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74280" y="3465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0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23760" y="3433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80960" y="3638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25440" y="2698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142760" y="2759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95520" y="3147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5840" y="3465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7840" y="6292800"/>
            <a:ext cx="797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-114480" y="712800"/>
          <a:ext cx="1293048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4480" y="712800"/>
                    <a:ext cx="1293048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982080" y="556740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. Contr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46040" y="553896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19840" y="205092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29560" y="25462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76160" y="18842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80480" y="24033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2360" y="50468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95640" y="50468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58760" y="50482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78920" y="5048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4800" y="2614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50920" y="3189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9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1320" y="3583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30320" y="4027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824440" y="2610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76960" y="3129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404120" y="3811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983720" y="41259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0400" y="6292800"/>
            <a:ext cx="7986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8-12-23T22:13:43Z</cp:lastPrinted>
  <dcterms:modified xsi:type="dcterms:W3CDTF">1999-02-26T20:19:15Z</dcterms:modified>
  <cp:revision>191</cp:revision>
  <dc:subject/>
  <dc:title>Gráfica 1 Prevalencia de Uso de Tabaco  Alguna Vez</dc:title>
</cp:coreProperties>
</file>