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EF91-A093-4EE7-9232-A5267A90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E299-D9FB-4C6D-8C82-D5428B3C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C0C-07B0-4B49-96DB-326F164C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3571-AD82-4EE4-B88B-313F82F9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922B-6C41-41B4-8D0F-FD50D032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7F4C-AEAA-4AC6-9AF7-0B4BA1FA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2B9F-3EE1-439B-8EEB-72231073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F229-9934-4D23-99C5-46040AB5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6171-5B25-4DB7-868C-A646F560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238-E0D1-461C-8E46-7AF53999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57E1-7EDB-41CE-AB6B-2C9CC40D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EFFE-DAC6-4EE4-8CEC-F400618A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05BC-4E0F-4B07-B76F-FD52F7AD9DCF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087560" y="5800680"/>
            <a:ext cx="34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80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10000" y="23241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14480" y="341280"/>
          <a:ext cx="125841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341280"/>
                    <a:ext cx="125841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25920" y="561024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45720" y="56102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6844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174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6840" y="46753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66320" y="46753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6200" y="467676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06680" y="4676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7720" y="3855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5416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5160" y="2039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2903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38960" y="3911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35840" y="4056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4200" y="2757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12000" y="3017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04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57240" y="525600"/>
          <a:ext cx="1257948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525600"/>
                    <a:ext cx="1257948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41280" y="5477040"/>
            <a:ext cx="17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45520" y="54482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403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403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403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820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4448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39960" y="482760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6656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2600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24720" y="482760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27664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27664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27484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3000" y="34923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89920" y="3921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80800" y="41623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58240" y="3349800"/>
            <a:ext cx="6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9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7560" y="36482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79520" y="41054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31360" y="4006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51040" y="41353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8440" y="33210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900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77720" y="4019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2708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7484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3512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4172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57440" y="3835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952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623556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41520"/>
          <a:ext cx="1238256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41520"/>
                    <a:ext cx="1238256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6035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6035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60352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4526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4526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4512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54320" y="554832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80480" y="5549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497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21000" y="46116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59440" y="4383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7120" y="3782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4960" y="3382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273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412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200240"/>
          <a:ext cx="1339056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200240"/>
                    <a:ext cx="133905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60560" y="121140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84720" y="121140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65720" y="121140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78000" y="111744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13320" y="11174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9800" y="11192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480" y="538164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02040" y="533880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19120" y="49370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7800" y="4689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91440" y="14860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51960" y="4819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20880" y="4146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5120" y="2141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5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32800" y="5340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21520" y="53690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50400" y="5392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22200" y="533556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5760" y="59040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84480" y="59119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84880" y="59040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73640" y="4435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10240" y="3147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29360" y="3549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20600" y="4492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81040" y="3147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6280" y="3495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2188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23480" y="4206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29040" y="20210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9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956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897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8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4280" y="2313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488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6188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42920" y="1773360"/>
          <a:ext cx="1209024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773360"/>
                    <a:ext cx="1209024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38320" y="166860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76760" y="166860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00920" y="166860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56840" y="154944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07880" y="154944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18000" y="155088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8504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6728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18040" y="50245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96960" y="4562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33440" y="2282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92400" y="50227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74720" y="44640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2480" y="2370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1648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2404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58000" y="268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89920" y="4838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62880" y="3465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7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42120" y="3519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6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22040" y="4867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4064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2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47240" y="3317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764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386000"/>
          <a:ext cx="8481960" cy="45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386000"/>
                    <a:ext cx="8481960" cy="45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06960" y="581040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58440" y="581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66960" y="2295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2412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7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581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52960" y="28670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24452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24452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722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722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722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95480" y="302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09960" y="1619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86480" y="2657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04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112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08000" y="2400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68720" y="2111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2517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64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840" y="545796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259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100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692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14720" y="2111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30760" y="2606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91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04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09640" y="1182600"/>
          <a:ext cx="8791560" cy="44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9640" y="1182600"/>
                    <a:ext cx="8791560" cy="44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897480" y="55198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3364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9580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39640" y="2232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30480" y="2484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98760" y="2774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64040" y="306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87760" y="3475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21360" y="3546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90680" y="907920"/>
          <a:ext cx="865332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680" y="907920"/>
                    <a:ext cx="865332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79600" y="523080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9000" y="52624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234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260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84800" y="1789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6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66040" y="2255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42640" y="21700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18400" y="2747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56720" y="3427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9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72760" y="2217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14120" y="2751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4400" y="325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840" y="2436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66480" y="3014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000" y="3560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5440" y="5748480"/>
            <a:ext cx="17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73760" y="57484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12280" y="29764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64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7240" y="398520"/>
          <a:ext cx="12355560" cy="45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398520"/>
                    <a:ext cx="1235556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69720" y="5734080"/>
            <a:ext cx="17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59840" y="57056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9640" y="47260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73920" y="4743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78840" y="47829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96000" y="48117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52480" y="4745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09600" y="475452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5937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0890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4508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19699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600" y="3125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6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07280" y="3525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7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5000" y="1994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58200" y="230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42280" y="2719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5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5480" y="3322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95160" y="3319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80800" y="3524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39600" y="2584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85720" y="2673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24000" y="3062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43120" y="3351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33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28440" y="741240"/>
          <a:ext cx="1252692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440" y="741240"/>
                    <a:ext cx="1252692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897480" y="57103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74520" y="56815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05520" y="18223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1524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1840" y="16556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6160" y="2174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8040" y="5075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5640" y="507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44280" y="5076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07200" y="5076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6360" y="2071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79360" y="316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52520" y="3668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87920" y="4199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0320" y="261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91280" y="315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2400" y="3840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0800" y="4183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64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2-11T19:16:57Z</cp:lastPrinted>
  <dcterms:modified xsi:type="dcterms:W3CDTF">1999-02-26T20:30:35Z</dcterms:modified>
  <cp:revision>135</cp:revision>
  <dc:subject/>
  <dc:title>Gráfica 1 Prevalencia de Uso de Tabaco  Alguna Vez</dc:title>
</cp:coreProperties>
</file>