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50DC-3D7C-4C62-AB87-BC937D96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01B6-64C8-427B-9F1C-83C94360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9D6-A88F-4229-AF1D-3ACDF6D5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928C-7F41-42A6-BD9D-306B7E785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DAE1-FF2B-4324-A5D9-F4A9B5F2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8F93-3C25-4E46-9060-F51A61F0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D6F7-1B35-4BF9-AA8D-CCC5D862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1AB3-5674-44A0-A5BE-3D0D5CA7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8E8D-9581-49FD-89E5-6F9984AE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5AA8-1473-46EC-8BBB-0FFAAC30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93FE-F451-405D-9443-74DD1EC5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25BA-E395-4586-8C05-4F66AA77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DC5A-0D0A-473A-B80D-4FC8FDD694CB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087560" y="5800680"/>
            <a:ext cx="34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80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10000" y="26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455760"/>
          <a:ext cx="124984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5760"/>
                    <a:ext cx="124984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153800" y="5610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03120" y="56102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19652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4368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90280" y="17985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66160" y="22892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6840" y="47894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2000" y="47894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73080" y="47912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63920" y="4791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772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68640" y="4170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06520" y="3125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86120" y="330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81880" y="39974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93080" y="4170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62640" y="2843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40440" y="3132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920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61920" y="698400"/>
          <a:ext cx="12700080" cy="44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1920" y="698400"/>
                    <a:ext cx="1270008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355040" y="556272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02760" y="55339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04800" y="22320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72080" y="22320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96080" y="22320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5080" y="47703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87240" y="47703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54280" y="47703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95000" y="47703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97560" y="47703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53160" y="47703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97400" y="210492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65120" y="210492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1840" y="210348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540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89920" y="3749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52000" y="399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01360" y="3720960"/>
            <a:ext cx="60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8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48760" y="390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93280" y="4019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8540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60160" y="39211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51040" y="410688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5680" y="33498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624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06520" y="4019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5588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3208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9236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9860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4312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3364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641680"/>
          <a:ext cx="12238200" cy="31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41680"/>
                    <a:ext cx="1223820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460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460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460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2813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2813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2795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57676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5785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726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92560" y="4754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02000" y="4554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7120" y="3868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395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044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4136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14280" y="1285920"/>
          <a:ext cx="1339056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1285920"/>
                    <a:ext cx="1339056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89000" y="12398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13160" y="12398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94520" y="123984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06440" y="114624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41760" y="114624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38600" y="114768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320" y="5438880"/>
            <a:ext cx="13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87920" y="542448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90680" y="50227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96600" y="49179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62640" y="1457280"/>
            <a:ext cx="8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7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23520" y="49338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0000" y="4403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027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04160" y="53974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07560" y="54259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79000" y="54500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07880" y="54212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5760" y="601200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41720" y="59911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70720" y="59547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88120" y="4692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81440" y="37195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43680" y="3035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21120" y="46641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09680" y="3519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44560" y="3238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9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21880" y="50227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51400" y="4578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44240" y="1820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6280" y="49942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4240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520" y="21985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7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472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6188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71360" y="1744560"/>
          <a:ext cx="11744280" cy="42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744560"/>
                    <a:ext cx="1174428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166760" y="17254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5200" y="17254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29360" y="17254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85280" y="160668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36320" y="160668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46800" y="160812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0920" y="54687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38680" y="547056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46680" y="49957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4040" y="4676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0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33280" y="2139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8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35000" y="4994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31800" y="45496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9560" y="2255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4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560" y="54687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09920" y="54687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86800" y="2660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89920" y="4781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8400" y="3808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85240" y="317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5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64800" y="4896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54960" y="3833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61560" y="3032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0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48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28920"/>
          <a:ext cx="8481960" cy="45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28920"/>
                    <a:ext cx="8481960" cy="45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34680" y="58672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4412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28670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52560" y="34383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5296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686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686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6865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95480" y="3486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09960" y="15908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29040" y="1943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48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6224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6224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392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620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112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50920" y="1400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68560" y="2397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03560" y="3089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847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48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486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45472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43888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39840" y="3178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14520" y="2025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2435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91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63216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19120" y="1150920"/>
          <a:ext cx="911844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1150920"/>
                    <a:ext cx="911844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811800" y="554832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47960" y="5548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38760" y="5548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25360" y="2832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16200" y="2427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84480" y="3260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4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78200" y="2948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30720" y="3560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50000" y="3432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2160" y="649440"/>
          <a:ext cx="917712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649440"/>
                    <a:ext cx="917712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36520" y="520236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9472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38760" y="5234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244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840" y="2475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6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2960" y="2941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13520" y="2684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1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04120" y="311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70880" y="3484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01400" y="2017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71200" y="255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31480" y="3110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49160" y="2265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80800" y="2786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72760" y="338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2000" y="5705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30840" y="57056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97640" y="3262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9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7840" y="635004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7240" y="512640"/>
          <a:ext cx="1223784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512640"/>
                    <a:ext cx="1223784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269360" y="576252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45360" y="57340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120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73920" y="4800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50400" y="48402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38760" y="48690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66800" y="4802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8116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7082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2273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3360" y="3611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35720" y="3697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4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2240" y="302256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29400" y="3247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56600" y="317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1704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95160" y="3405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23560" y="3638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82360" y="2641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00040" y="2730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95200" y="3147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95744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57240" y="541440"/>
          <a:ext cx="119793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240" y="541440"/>
                    <a:ext cx="119793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925200" y="56246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02800" y="55958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77080" y="20797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86440" y="27176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04600" y="19130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37720" y="25750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3560" y="48751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2720" y="4875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30000" y="48769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07240" y="4876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9120" y="2700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93680" y="3246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2720" y="3868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6200" y="4056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95680" y="2438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48200" y="2986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89680" y="3668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40840" y="3954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9-02-11T16:54:00Z</cp:lastPrinted>
  <dcterms:modified xsi:type="dcterms:W3CDTF">1999-02-26T20:32:36Z</dcterms:modified>
  <cp:revision>128</cp:revision>
  <dc:subject/>
  <dc:title>Gráfica 1 Prevalencia de Uso de Tabaco  Alguna Vez</dc:title>
</cp:coreProperties>
</file>