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9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D732C-7C11-4A8E-879E-C600BB4A8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C2BD0-F895-4201-A2D3-8A3A844AB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D5398-AFC7-4DC9-9D4A-6873058A5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7B62B-2AA1-4189-BD1B-AA2FBA94F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7FDE5-182E-4935-9F2E-2DEFE70B8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D1464-1F11-44B9-8F0D-325814D1F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A3FBE-A1DF-487C-998E-7801EACC5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9ABE0-99CA-4DE8-A028-683D879F5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DF7A2-29AE-4037-8FD7-59410230F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0AC6A-EC9E-4BE0-A86F-790046BC9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3AFA3-10F9-43A1-BD57-A032887A5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BEC1B-3F45-44C6-8685-D2348FFB4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03D59-18D3-47EF-945A-713AA3EAD800}" type="slidenum"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533520" y="1409760"/>
          <a:ext cx="8153280" cy="431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09760"/>
                    <a:ext cx="8153280" cy="431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915840" y="5686560"/>
            <a:ext cx="346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Iztacal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867200" y="568656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24120" y="24955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54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877000" y="244152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55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365200" y="361800"/>
            <a:ext cx="4807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Gráfica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revalencia de Uso de Tabac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Uso Alguna Ve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1800" y="629280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Iztacalco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85480" y="580680"/>
            <a:ext cx="8574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Gráfica 10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revalencia Total de Uso de Alcohol por tipo de Bebida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or Gén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-36360" y="398520"/>
          <a:ext cx="12612600" cy="450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6360" y="398520"/>
                    <a:ext cx="12612600" cy="450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" name=""/>
          <p:cNvSpPr/>
          <p:nvPr/>
        </p:nvSpPr>
        <p:spPr>
          <a:xfrm>
            <a:off x="1209600" y="5553000"/>
            <a:ext cx="135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Iztacal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603120" y="5553000"/>
            <a:ext cx="81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819840" y="1908000"/>
            <a:ext cx="201600" cy="173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29560" y="2374920"/>
            <a:ext cx="201600" cy="173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076160" y="1741320"/>
            <a:ext cx="138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Homb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052040" y="223200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Muje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85280" y="4732200"/>
            <a:ext cx="1180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Alcoh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u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2000" y="4732200"/>
            <a:ext cx="152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Destil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501880" y="4734000"/>
            <a:ext cx="1180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Alcoh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u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121160" y="4734000"/>
            <a:ext cx="152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Destil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19280" y="402732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4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297080" y="402732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3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278080" y="30686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25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914560" y="31320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24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681880" y="394020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221520" y="411336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2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291440" y="27860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32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869240" y="307512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25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04720" y="629280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Iztacalco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85480" y="263160"/>
            <a:ext cx="8574120" cy="13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Gráfica 11</a:t>
            </a:r>
            <a:br>
              <a:rPr sz="2600"/>
            </a:b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Prevalencia Total de Uso de Droga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-182520" y="582480"/>
          <a:ext cx="12958560" cy="467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82520" y="582480"/>
                    <a:ext cx="12958560" cy="467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8" name=""/>
          <p:cNvSpPr/>
          <p:nvPr/>
        </p:nvSpPr>
        <p:spPr>
          <a:xfrm>
            <a:off x="1411560" y="5505480"/>
            <a:ext cx="1250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Iztacalc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688440" y="5477040"/>
            <a:ext cx="762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390680" y="2260440"/>
            <a:ext cx="201600" cy="173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657600" y="2260440"/>
            <a:ext cx="201600" cy="173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781600" y="2260440"/>
            <a:ext cx="201600" cy="1731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3880" y="4884840"/>
            <a:ext cx="1517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Marigua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587240" y="4884840"/>
            <a:ext cx="1159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Cocaí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711160" y="4884840"/>
            <a:ext cx="1422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Inhalab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937760" y="4884840"/>
            <a:ext cx="1517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Marigua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397560" y="4884840"/>
            <a:ext cx="1159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Cocaí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553160" y="4884840"/>
            <a:ext cx="1422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Inhalab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582920" y="2133720"/>
            <a:ext cx="1639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Alguna Vez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50640" y="2133720"/>
            <a:ext cx="1569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Ultimo Añ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057720" y="2131920"/>
            <a:ext cx="1567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Ultimo M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31280" y="352116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4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75800" y="374976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3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009080" y="3990960"/>
            <a:ext cx="601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.1.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672560" y="334980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5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991520" y="373392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3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250360" y="404820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1.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885400" y="334980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5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231360" y="366408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3.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521880" y="396396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2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367240" y="3406680"/>
            <a:ext cx="320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646240" y="372096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3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906520" y="407664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1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484320" y="354960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4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860520" y="380700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2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120800" y="413532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1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698600" y="360684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3.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8071920" y="389268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2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8390880" y="413532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1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04720" y="629280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Iztacalco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318960" y="1119240"/>
            <a:ext cx="8574120" cy="10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Gráfica 12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revalencia Total de Uso de Drogas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or Edad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0" y="2556000"/>
          <a:ext cx="12238200" cy="314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556000"/>
                    <a:ext cx="12238200" cy="31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4" name=""/>
          <p:cNvSpPr/>
          <p:nvPr/>
        </p:nvSpPr>
        <p:spPr>
          <a:xfrm>
            <a:off x="1424160" y="2289240"/>
            <a:ext cx="201600" cy="1728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691080" y="2289240"/>
            <a:ext cx="201600" cy="172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815080" y="2289240"/>
            <a:ext cx="201600" cy="1728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615680" y="2138400"/>
            <a:ext cx="171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Marigu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983040" y="2138400"/>
            <a:ext cx="12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ocaí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089400" y="2136600"/>
            <a:ext cx="153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Inhal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154520" y="5576760"/>
            <a:ext cx="228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15 años o men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080320" y="5578560"/>
            <a:ext cx="198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16 años o má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5680" y="438300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3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421000" y="435456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3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402000" y="4211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278680" y="395460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7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172200" y="35542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10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008840" y="413064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5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19200" y="629280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Iztacalco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441360" y="438120"/>
            <a:ext cx="8574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Gráfica 13</a:t>
            </a:r>
            <a:br>
              <a:rPr sz="2400"/>
            </a:b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Tolerancia Social al Uso de Sustancia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0" name=""/>
          <p:cNvGraphicFramePr/>
          <p:nvPr/>
        </p:nvGraphicFramePr>
        <p:xfrm>
          <a:off x="-343080" y="1285920"/>
          <a:ext cx="13390920" cy="463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43080" y="1285920"/>
                    <a:ext cx="13390920" cy="46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2" name=""/>
          <p:cNvSpPr/>
          <p:nvPr/>
        </p:nvSpPr>
        <p:spPr>
          <a:xfrm>
            <a:off x="1117440" y="1182600"/>
            <a:ext cx="201600" cy="173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441600" y="1182600"/>
            <a:ext cx="201600" cy="173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222960" y="1182600"/>
            <a:ext cx="201600" cy="1731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335240" y="1089000"/>
            <a:ext cx="146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Verían bi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670560" y="1089000"/>
            <a:ext cx="177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Ni  bien ni 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467040" y="1090440"/>
            <a:ext cx="140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Verían 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0760" y="5410080"/>
            <a:ext cx="13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Maest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173600" y="5367240"/>
            <a:ext cx="1632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Compañer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de Escue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62240" y="5022720"/>
            <a:ext cx="37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.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967800" y="486108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4.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262640" y="1542960"/>
            <a:ext cx="84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95.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795080" y="487692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3.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920000" y="414648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23.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8356680" y="234144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72.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404160" y="5425920"/>
            <a:ext cx="118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Maest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450320" y="5397480"/>
            <a:ext cx="1569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Compañe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de Escue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522120" y="5421240"/>
            <a:ext cx="118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Maest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579080" y="5421240"/>
            <a:ext cx="1569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Compañe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de Escue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54200" y="5997600"/>
            <a:ext cx="98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Taba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070520" y="5997600"/>
            <a:ext cx="101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Alcoh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7356600" y="5997600"/>
            <a:ext cx="96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Drog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373640" y="452124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13.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653000" y="349092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41.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114880" y="334980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45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049400" y="449280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14.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395360" y="340524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42.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916280" y="343836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42.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465000" y="5022720"/>
            <a:ext cx="37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.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522600" y="457848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11.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986280" y="179244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87.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87840" y="499428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1.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08080" y="429732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19.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84280" y="214164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78.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0400" y="637848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Iztacalco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461880" y="409680"/>
            <a:ext cx="8574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0000"/>
                </a:solidFill>
                <a:latin typeface="Times New Roman"/>
              </a:rPr>
              <a:t>Gráfica 14</a:t>
            </a:r>
            <a:br>
              <a:rPr sz="2600"/>
            </a:br>
            <a:r>
              <a:rPr b="1" lang="es-MX" sz="2600" spc="-1" strike="noStrike">
                <a:solidFill>
                  <a:srgbClr val="000000"/>
                </a:solidFill>
                <a:latin typeface="Times New Roman"/>
              </a:rPr>
              <a:t>Percepción de Riesgo Asociada al Uso de Sustancia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228600" y="1687680"/>
          <a:ext cx="11744280" cy="4201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87680"/>
                    <a:ext cx="11744280" cy="42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9" name=""/>
          <p:cNvSpPr/>
          <p:nvPr/>
        </p:nvSpPr>
        <p:spPr>
          <a:xfrm>
            <a:off x="1138320" y="1697040"/>
            <a:ext cx="201600" cy="173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776760" y="1697040"/>
            <a:ext cx="201600" cy="173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100920" y="1697040"/>
            <a:ext cx="201600" cy="1731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356840" y="1577880"/>
            <a:ext cx="1980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No es peligros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007880" y="1577880"/>
            <a:ext cx="1631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Es peligros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318000" y="1579680"/>
            <a:ext cx="2229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Es muy peligros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628160" y="5411880"/>
            <a:ext cx="172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Mariguana 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Cocaí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595920" y="5413320"/>
            <a:ext cx="142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Heroína 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Inhalab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703560" y="4938840"/>
            <a:ext cx="390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.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882480" y="441972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7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7518960" y="228276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82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720680" y="490860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.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017320" y="437832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7.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626800" y="231300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80.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30800" y="5411880"/>
            <a:ext cx="1651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Fumar 5 ó 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cigarrill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567160" y="5411880"/>
            <a:ext cx="1892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Uso Frecuen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de Alcoho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7844040" y="260352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975600" y="475308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5.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406160" y="3665520"/>
            <a:ext cx="461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842120" y="32050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54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822040" y="483876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3.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112200" y="36338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41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775680" y="31748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54.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76440" y="6292800"/>
            <a:ext cx="787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Iztacalco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Gráfica 2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revalencia Total de Uso de Tabaco 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or Gén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662040" y="1558800"/>
          <a:ext cx="8481960" cy="450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2040" y="1558800"/>
                    <a:ext cx="8481960" cy="450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790640" y="5867280"/>
            <a:ext cx="135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ztacal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272560" y="5867280"/>
            <a:ext cx="81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895400" y="2952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3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809800" y="28954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5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114880" y="275256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8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981760" y="300996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2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04720" y="635004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Iztacalco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ráfica 3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evalencia Total de Uso de Tabaco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r Nivel Escol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04640" y="1330200"/>
          <a:ext cx="8339400" cy="458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4640" y="1330200"/>
                    <a:ext cx="8339400" cy="458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"/>
          <p:cNvSpPr/>
          <p:nvPr/>
        </p:nvSpPr>
        <p:spPr>
          <a:xfrm>
            <a:off x="666720" y="568656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unda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619360" y="568656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achillera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381560" y="568656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écn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009800" y="2971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67200" y="19620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829040" y="1971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1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657440" y="309564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5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581280" y="19908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0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467320" y="19908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0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76280" y="629280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Iztacalco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ráfica 4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evalencia Total de Uso de Tabaco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r Tiempo Dedicado al Estud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436680" y="1357200"/>
          <a:ext cx="9113760" cy="4386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6680" y="1357200"/>
                    <a:ext cx="9113760" cy="438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"/>
          <p:cNvSpPr/>
          <p:nvPr/>
        </p:nvSpPr>
        <p:spPr>
          <a:xfrm>
            <a:off x="878040" y="5477040"/>
            <a:ext cx="156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No estud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010680" y="5477040"/>
            <a:ext cx="1384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studi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½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755240" y="5477040"/>
            <a:ext cx="2155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studia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omple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008000" y="26290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55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197160" y="179712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7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246640" y="28036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51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785960" y="21956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65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865320" y="21099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67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13360" y="27446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52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61960" y="635004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Iztacalco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437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Gráfica 5 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revalencia Total de Uso de Tabaco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Por Tiempo Dedicado al Trabaj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838080" y="1638360"/>
          <a:ext cx="792504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638360"/>
                    <a:ext cx="792504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"/>
          <p:cNvSpPr/>
          <p:nvPr/>
        </p:nvSpPr>
        <p:spPr>
          <a:xfrm>
            <a:off x="1068480" y="5514840"/>
            <a:ext cx="159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No traba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889360" y="5483160"/>
            <a:ext cx="155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Trabaja 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488120" y="5467320"/>
            <a:ext cx="2223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Trabaja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omple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382760" y="29210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52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085920" y="21970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71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701960" y="29494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51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987560" y="28908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53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747960" y="22240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69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392800" y="23130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67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19200" y="635004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Iztacalco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352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Gráfica 6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revalencia Total de Uso de Alcoh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520560" y="1208160"/>
          <a:ext cx="8974440" cy="4201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0560" y="1208160"/>
                    <a:ext cx="8974440" cy="42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"/>
          <p:cNvSpPr/>
          <p:nvPr/>
        </p:nvSpPr>
        <p:spPr>
          <a:xfrm>
            <a:off x="754560" y="5519880"/>
            <a:ext cx="169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Alguna Ve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790720" y="5519880"/>
            <a:ext cx="169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Ultimo A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781520" y="551988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Ultimo 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239840" y="24890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53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901880" y="242712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54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027240" y="30891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38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49760" y="29764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42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045040" y="353232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27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735520" y="34322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3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90400" y="626436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Iztacalco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437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Gráfica 7</a:t>
            </a:r>
            <a:br>
              <a:rPr sz="2600"/>
            </a:b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Prevalencia Total de Uso de Alcohol</a:t>
            </a:r>
            <a:br>
              <a:rPr sz="2600"/>
            </a:b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Por Géner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345960" y="762120"/>
          <a:ext cx="8798040" cy="468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5960" y="762120"/>
                    <a:ext cx="8798040" cy="46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722160" y="5259240"/>
            <a:ext cx="1279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Homb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951920" y="5291280"/>
            <a:ext cx="117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Muje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110120" y="5291280"/>
            <a:ext cx="1279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Homb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412600" y="5291280"/>
            <a:ext cx="117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Muje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99120" y="23320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52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051560" y="299880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37.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927800" y="222732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54.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232720" y="29480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39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471040" y="345600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28.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172760" y="213192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56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28440" y="26938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45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788720" y="325296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33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391720" y="237960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52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738040" y="295740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39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72760" y="350352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27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5520" y="5734080"/>
            <a:ext cx="1250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Iztacalc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059440" y="5734080"/>
            <a:ext cx="762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326240" y="349092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27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61960" y="629280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Iztacalco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85480" y="523440"/>
            <a:ext cx="8574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Gráfica 8</a:t>
            </a:r>
            <a:br>
              <a:rPr sz="2600"/>
            </a:b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Prevalencia Total de Uso de Alcohol por tipo de Bebida</a:t>
            </a:r>
            <a:br>
              <a:rPr sz="2600"/>
            </a:b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Por Géner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171360" y="684360"/>
          <a:ext cx="12263400" cy="450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1360" y="684360"/>
                    <a:ext cx="12263400" cy="450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1554120" y="5791320"/>
            <a:ext cx="1250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Iztacalc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517080" y="5762520"/>
            <a:ext cx="762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08080" y="4997520"/>
            <a:ext cx="1561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Bebid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Preparad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573920" y="4992840"/>
            <a:ext cx="117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Cocte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07640" y="4997520"/>
            <a:ext cx="113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Vino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de mes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953240" y="4997520"/>
            <a:ext cx="1561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Bebid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Preparad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338160" y="4992840"/>
            <a:ext cx="117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Cocte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624080" y="4997520"/>
            <a:ext cx="113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Vino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de mes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819840" y="1793880"/>
            <a:ext cx="201600" cy="173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29560" y="2289240"/>
            <a:ext cx="201600" cy="172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078680" y="1650960"/>
            <a:ext cx="1279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Homb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082640" y="2170080"/>
            <a:ext cx="117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Muje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600" y="37828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17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121400" y="386856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15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583280" y="296532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35.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186640" y="281952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38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885040" y="36338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19.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431160" y="378000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16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80840" y="357660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21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766480" y="37814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16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396840" y="28414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38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914160" y="290196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36.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580880" y="329076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27.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100000" y="36082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20.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33520" y="6321600"/>
            <a:ext cx="787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Iztacalco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85480" y="523440"/>
            <a:ext cx="8574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Gráfica 9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revalencia Total de Uso de Alcohol por tipo de Bebida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or Gén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0" y="712800"/>
          <a:ext cx="12492000" cy="450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712800"/>
                    <a:ext cx="12492000" cy="450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" name=""/>
          <p:cNvSpPr/>
          <p:nvPr/>
        </p:nvSpPr>
        <p:spPr>
          <a:xfrm>
            <a:off x="1438200" y="5624640"/>
            <a:ext cx="135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Iztacal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746040" y="5624640"/>
            <a:ext cx="81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05520" y="1765440"/>
            <a:ext cx="201600" cy="1728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15240" y="2260440"/>
            <a:ext cx="201600" cy="173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161840" y="1598760"/>
            <a:ext cx="138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Homb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6160" y="211788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Muje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70760" y="5060880"/>
            <a:ext cx="12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erve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424240" y="506088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ul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644440" y="5060880"/>
            <a:ext cx="12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erve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292880" y="506088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ul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18920" y="27860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39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293840" y="31035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32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423880" y="38973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14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944800" y="405612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10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796000" y="26100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276960" y="31575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30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318440" y="38116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15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926480" y="412596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04720" y="629280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Iztacalco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13T19:22:50Z</dcterms:created>
  <dc:creator>JORGE VILLATORO</dc:creator>
  <dc:description/>
  <dc:language>en-US</dc:language>
  <cp:lastModifiedBy>Liliana</cp:lastModifiedBy>
  <cp:lastPrinted>1999-02-10T17:33:10Z</cp:lastPrinted>
  <dcterms:modified xsi:type="dcterms:W3CDTF">1999-02-26T20:23:43Z</dcterms:modified>
  <cp:revision>24</cp:revision>
  <dc:subject/>
  <dc:title>Sin título de diapositiva</dc:title>
</cp:coreProperties>
</file>