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622-1FB6-4EA9-B32B-F6E21F87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B2C-241E-416C-B65D-2371789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118-DB81-493F-B836-FC24365B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625-4B4B-44E1-B90B-AC1E1C2D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A8C-0420-4E98-8D73-52389B03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554-5DBE-4CE4-BCA8-8C712A49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1BF-9193-4A0A-9B46-30E5B6D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18C-F29B-4215-8216-4263811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1BE-2A69-4A74-A737-FBB0492E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C94-BEC9-4B90-B12B-89C9481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0DE-AEFB-4378-BDAA-C7242A9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40A-3A44-4ADB-8544-64D3FA0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ECA-0201-401D-96E3-6EB6CB4F177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5308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381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26960"/>
          <a:ext cx="12266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960"/>
                    <a:ext cx="12266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3160" y="5695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31400" y="5695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328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100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14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786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852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632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496800"/>
          <a:ext cx="12527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496800"/>
                    <a:ext cx="12527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3080" y="5448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880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960" y="30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1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298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60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978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2210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05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464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464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44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9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725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2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387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0024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0024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8770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6712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382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666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344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64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906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40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70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906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08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705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6200" y="5022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4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924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6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6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21440" y="5867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9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76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74920"/>
          <a:ext cx="83394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74920"/>
                    <a:ext cx="8339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114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18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4400" y="207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2120" y="177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0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6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3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8000" y="1298520"/>
          <a:ext cx="9469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8520"/>
                    <a:ext cx="9469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4910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491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491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10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464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740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388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088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7760" y="735120"/>
          <a:ext cx="87962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735120"/>
                    <a:ext cx="87962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05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332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5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" y="1874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1368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70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39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1720" y="5691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91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2976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512640"/>
          <a:ext cx="126684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2640"/>
                    <a:ext cx="126684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4800" y="564840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824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528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225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98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5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848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7760" y="23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03080" y="3179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5408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86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240" y="627120"/>
          <a:ext cx="12295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27120"/>
                    <a:ext cx="12295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6080" y="57103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7448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372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132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2168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32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000" y="3998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21:02:54Z</cp:lastPrinted>
  <dcterms:modified xsi:type="dcterms:W3CDTF">1999-02-26T20:34:30Z</dcterms:modified>
  <cp:revision>126</cp:revision>
  <dc:subject/>
  <dc:title>Gráfica 1 Prevalencia de Uso de Tabaco  Alguna Vez</dc:title>
</cp:coreProperties>
</file>