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26D-6319-4ACC-9F55-757F7DC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74A-6DCA-4BBD-A5BB-7DAA9C0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32B-CE20-4DC2-B619-63D9D02D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E14-89CC-40E2-9E2A-4CA7BBA2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500-B236-4144-A8E6-44E401E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ABD-56E6-4A76-A84F-3A72FEEC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B37-A7E3-40AF-B2D2-16F11E91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AC8-11AA-4302-A542-FCC0B4F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CE6-04BB-4D65-AB26-1E5B3A2C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CA5-0E25-4D17-8856-3026BEB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B0B-84CB-47B4-9761-7CBF2BF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B3E-0E05-4812-BC0A-A9CF67D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2B6D-E2CF-4E6B-8EF4-6E0A1FE55B1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58960" y="56293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9960" y="562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787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787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5000" y="56102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743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23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280" y="29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032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768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96800"/>
          <a:ext cx="130460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96800"/>
                    <a:ext cx="130460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0680" y="550548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44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367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208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440" y="39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03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864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480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6080" y="3902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780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76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68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49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6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14720" y="1935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4641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316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320" y="4881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9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700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88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940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188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08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1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2771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9800" y="2276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4352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6440" y="22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3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340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1360" y="268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232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7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820800"/>
          <a:ext cx="91771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20800"/>
                    <a:ext cx="91771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22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452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508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480" y="31478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99320" y="3684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" y="570564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20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60480" y="598320"/>
          <a:ext cx="146019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598320"/>
                    <a:ext cx="14601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7625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86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6080" y="49258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9546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88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9744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93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3130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004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822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9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72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844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522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47520" y="712800"/>
          <a:ext cx="12528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712800"/>
                    <a:ext cx="1252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96560" y="56246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744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07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503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7000" y="381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8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1:23Z</dcterms:modified>
  <cp:revision>180</cp:revision>
  <dc:subject/>
  <dc:title>Gráfica 1 Prevalencia de Uso de Tabaco  Alguna Vez</dc:title>
</cp:coreProperties>
</file>