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FD5-2EDF-45D8-9198-43BD058C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902-191A-4987-A5BA-3D82B99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C77-2701-4377-9F9A-41E5983E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489-E649-4AB2-BF5E-E4809F86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CAC-D8D0-4305-A3B5-8C1B7BB8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4AC-F191-40E2-BF77-9AEF9E4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081-53DE-405D-A126-BE25123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65F-53DE-4C1D-88D0-CC79D1F7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125-31C4-4717-8867-97E5F727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9B1-9542-4676-B0EC-E60BA275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911-7869-49BE-9BF3-0049CA9C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892-C89D-46D8-8795-14C64D7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B82D-3B55-4C8D-AE3E-27D683B7D74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809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312840"/>
          <a:ext cx="13133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312840"/>
                    <a:ext cx="13133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97080" y="5495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17240" y="54957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463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800" y="4646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46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6000" y="4648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648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82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9124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2960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18960" y="554040"/>
          <a:ext cx="133617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8960" y="554040"/>
                    <a:ext cx="133617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68440" y="5477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au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568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8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13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340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84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984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648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308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3532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15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59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8600" y="10638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5720" y="1063800"/>
            <a:ext cx="193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1480" y="106524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51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988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03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4692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87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19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12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548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0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59760" y="3181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8360" y="482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21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199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28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142920" y="1630440"/>
          <a:ext cx="12611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1630440"/>
                    <a:ext cx="12611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61880" y="219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48229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944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32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704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0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440" y="5781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781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3038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67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53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24280" y="20480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114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656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857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372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436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119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957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1040" y="3321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282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30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48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22320" y="649440"/>
          <a:ext cx="93218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649440"/>
                    <a:ext cx="93218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2400" y="50878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90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1520" y="51195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760" y="25034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040" y="305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060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46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3640" y="3627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726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24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0304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208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2640" y="56484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596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3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12640"/>
          <a:ext cx="12787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12640"/>
                    <a:ext cx="12787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68440" y="5676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196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560" y="3247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693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65556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556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68440" y="5681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0480" y="29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0816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197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02:58Z</dcterms:modified>
  <cp:revision>232</cp:revision>
  <dc:subject/>
  <dc:title>Gráfica 1 Prevalencia de Uso de Tabaco  Alguna Vez</dc:title>
</cp:coreProperties>
</file>