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48A-C626-41AB-BE76-6724357D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578-99A3-4C67-82E6-871AB32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70F-A467-4F6F-82B4-0A37439C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8F0-F3D9-4A86-8259-1CF3160E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6B8-5F66-4EEF-A1BA-1739D9F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2B8-EE12-44DF-A32E-0EC28EE5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E3E-919E-40E9-B949-0D3130BB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BB8-8CB0-45BB-B467-99B11AF7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628-D184-4EC4-A824-C70FAB16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0A3-66A1-4B00-B8FE-1475FDFC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D86-F22D-42A4-8825-6EB15861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BA2-5249-4BE2-A00A-2115B094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41E0-740E-468C-A1CB-F872B0D19D5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52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28600" y="455760"/>
          <a:ext cx="13219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55760"/>
                    <a:ext cx="13219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38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386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73240" y="48196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792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848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2400" y="304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34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3912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76040" y="411120"/>
          <a:ext cx="128998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040" y="411120"/>
                    <a:ext cx="128998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5240" y="553392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704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4412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9480" y="39625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338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21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2740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4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554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26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100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656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712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752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69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6960" y="59832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86440" y="3178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6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6360" y="2198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8440" y="1630440"/>
          <a:ext cx="12176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630440"/>
                    <a:ext cx="12176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3830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38488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531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8680" y="45054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05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3830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3830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911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600" y="30052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7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6040" y="28893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3600" y="5867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7525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00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95880" y="5800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1360" y="264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5429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94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9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66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68280" y="3063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749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9544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8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375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176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59160" y="3875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632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763560"/>
          <a:ext cx="88232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763560"/>
                    <a:ext cx="88232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2444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344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79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827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08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71360" y="569880"/>
          <a:ext cx="13160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569880"/>
                    <a:ext cx="13160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4092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41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59800" y="4857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859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1593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9880" y="20844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56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92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54840" y="3022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307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7227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5216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810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314280" y="770040"/>
          <a:ext cx="130762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770040"/>
                    <a:ext cx="130762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321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788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704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77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956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0960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58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37:10Z</dcterms:modified>
  <cp:revision>292</cp:revision>
  <dc:subject/>
  <dc:title>Gráfica 1 Prevalencia de Uso de Tabaco  Alguna Vez</dc:title>
</cp:coreProperties>
</file>