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07D-3A02-4AB1-9EC8-7E5BC6C6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B19-7A35-429F-9B49-FCFC3689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1C9-77A6-4D94-9ECF-14833D54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59E-2E2A-4361-9BA0-D5ABDF4F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969-6C04-4995-8B0D-DF2D3A5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E6D-DFA7-4119-9FD1-1D3E2D3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2A1-A001-4FB5-B834-5A3262AA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ADA-8946-4648-AD30-DEC52276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D14C-77E1-48DD-AE6D-E5814A8D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EA7-5B27-45F2-9837-7BB7BB0D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B3A-A32F-4CB9-B8D2-6866B5D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A1B-4FB1-43DC-9FA7-B275CF0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D43-C770-44A3-924B-759491FEC3A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6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455760"/>
          <a:ext cx="12498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5760"/>
                    <a:ext cx="12498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53800" y="5610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9028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61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30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6392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0652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9308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6264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044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61920" y="698400"/>
          <a:ext cx="1270008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1920" y="698400"/>
                    <a:ext cx="1270008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355040" y="55627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0480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7208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9608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50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740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512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184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5200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01360" y="372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328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0688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58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320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9236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3364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726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7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55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868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95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8592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8592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39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398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398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462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462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47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38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917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93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40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02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397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07560" y="54259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450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7072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88120" y="4692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7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3680" y="3035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21120" y="46641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519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44560" y="3238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40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71360" y="1744560"/>
          <a:ext cx="11744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744560"/>
                    <a:ext cx="11744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66760" y="17254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5200" y="1725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29360" y="17254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85280" y="16066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6320" y="16066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0" y="160812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092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3868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680" y="4995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4040" y="46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3328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99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31800" y="45496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956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5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6800" y="2660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840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2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896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8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2892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2892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412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867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383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486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590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43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40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8560" y="239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0356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39840" y="317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4520" y="20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2435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19120" y="1150920"/>
          <a:ext cx="9118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150920"/>
                    <a:ext cx="9118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1180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4796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3876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536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84480" y="3260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78200" y="294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560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649440"/>
          <a:ext cx="917712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649440"/>
                    <a:ext cx="91771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947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387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84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2960" y="2941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52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4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014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11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4916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000" y="5705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764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512640"/>
          <a:ext cx="122378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512640"/>
                    <a:ext cx="122378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360" y="576252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4536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3876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668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811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60" y="3611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3572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2240" y="3022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3247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35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236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000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9520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744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57240" y="541440"/>
          <a:ext cx="11979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1979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25200" y="5624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jimal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028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440" y="27176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0460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37720" y="2575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3560" y="4875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2720" y="4875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0000" y="4876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07240" y="4876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93680" y="324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956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48200" y="2986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968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084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jimal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6:54:00Z</cp:lastPrinted>
  <dcterms:modified xsi:type="dcterms:W3CDTF">1999-02-26T20:32:36Z</dcterms:modified>
  <cp:revision>128</cp:revision>
  <dc:subject/>
  <dc:title>Gráfica 1 Prevalencia de Uso de Tabaco  Alguna Vez</dc:title>
</cp:coreProperties>
</file>