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370D-056F-44A7-B657-393175B40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8649-EF2F-479C-B115-BEB48779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4226-D8AC-4CF0-9467-E2DABD104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B3A0-2982-464C-A1C4-4E85E60BA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32EF-B40C-4657-98AF-ED51D66A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3354-9E52-4973-B1AA-CABB14B6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C9F3-4FA5-4F29-AEC9-15FC71A0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4BA2-EE80-4AB6-80A6-1BE84D28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5675-D13D-4006-9C7B-AC7A4038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D6E4-C971-4F87-AF27-C8D5DA92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3011-F5E8-48ED-B113-164CB9D1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7128-03BB-449B-A67D-2690D08A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30DF-7245-493A-AAA6-897C7D3AD9AE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915840" y="5657760"/>
            <a:ext cx="34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lal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95840" y="56577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81360" y="2295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9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114480" y="369720"/>
          <a:ext cx="1301760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480" y="369720"/>
                    <a:ext cx="1301760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325160" y="55818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lal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03120" y="55818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8795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3464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7128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2035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5280" y="470376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2000" y="47037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87560" y="47052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63720" y="47052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3600" y="38847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54160" y="402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78080" y="2468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7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86120" y="2760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96000" y="39117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36000" y="40561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05560" y="2757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69040" y="3017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629280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376200" y="382680"/>
          <a:ext cx="1347948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76200" y="382680"/>
                    <a:ext cx="1347948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296360" y="5419800"/>
            <a:ext cx="1113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Tlalp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88440" y="54198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3176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3176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31768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20" y="46846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15880" y="468468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25480" y="468468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23440" y="46846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54440" y="468468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38840" y="468468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19060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19060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18916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560" y="2978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2880" y="32925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94600" y="37908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29640" y="3635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05840" y="3819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22280" y="399096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99720" y="3635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45680" y="38638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65360" y="399240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52920" y="317808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74680" y="3492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63760" y="38480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70000" y="33498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46200" y="3606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235280" y="3935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870320" y="3406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214840" y="369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505360" y="3935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9200" y="62643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527200"/>
          <a:ext cx="1223820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27200"/>
                    <a:ext cx="1223820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460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460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460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30976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3097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30832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57676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5785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82920" y="4411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64120" y="45831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02000" y="4411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5560" y="31258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3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15320" y="4154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08840" y="4559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472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896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79440" y="1228680"/>
          <a:ext cx="13390560" cy="46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79440" y="1228680"/>
                    <a:ext cx="13390560" cy="46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99540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1956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0092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1284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4816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4500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42840" y="546732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22760" y="545292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97080" y="496584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31440" y="4775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169040" y="145728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4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758360" y="4876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12080" y="40323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4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19960" y="2284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2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96080" y="545472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299480" y="545472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14200" y="547848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1160" y="547848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0600" y="606888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48120" y="61056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19880" y="609768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36920" y="4464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30760" y="31766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8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64200" y="35211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8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41480" y="44067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4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44680" y="31194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9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08000" y="36385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5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57080" y="490860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86240" y="42642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8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07520" y="1963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120" y="49086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1360" y="38116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4800" y="24843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7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4720" y="643572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1896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0" y="1573200"/>
          <a:ext cx="12236400" cy="42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73200"/>
                    <a:ext cx="12236400" cy="42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995400" y="16113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33840" y="1611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8000" y="16113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3920" y="149220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64960" y="149220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75080" y="149400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42120" y="544032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10040" y="544212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18040" y="482436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68160" y="4476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0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05000" y="1940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8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06720" y="479412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17320" y="4264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7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55240" y="2170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1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5120" y="544032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52680" y="544032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15440" y="24890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75800" y="45813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19960" y="3351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5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70760" y="32623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7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36360" y="4724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40640" y="3290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7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18800" y="3174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0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7840" y="6350040"/>
            <a:ext cx="787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00120"/>
          <a:ext cx="848196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00120"/>
                    <a:ext cx="848196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792080" y="58672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lal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6880" y="58672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95400" y="2610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09800" y="2724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72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2981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6280" y="635004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444680"/>
          <a:ext cx="8339400" cy="45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444680"/>
                    <a:ext cx="8339400" cy="45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7722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7722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7722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30290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52720" y="1619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57840" y="17715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2097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2104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2104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36680" y="1357200"/>
          <a:ext cx="911376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357200"/>
                    <a:ext cx="911376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935280" y="54770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estu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67560" y="547704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10680" y="547704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a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79360" y="1886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25800" y="24541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9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46640" y="2460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9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55960" y="2109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13360" y="2744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51484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traba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7560" y="548316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a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6680" y="546732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a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82760" y="2692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43160" y="2197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2006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2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13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628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409760"/>
          <a:ext cx="8656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09760"/>
                    <a:ext cx="8656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83160" y="554832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554832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5483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68440" y="2432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01680" y="2627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13240" y="2860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06800" y="3090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02080" y="33606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6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6880" y="3575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18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7840" y="706320"/>
          <a:ext cx="9109080" cy="464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706320"/>
                    <a:ext cx="9109080" cy="46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322200" y="514512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8840" y="51768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52880" y="517680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26920" y="51768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3640" y="19321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9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80200" y="2370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0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70760" y="1969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9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89800" y="2490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7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56560" y="3112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87080" y="2075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28440" y="2608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88720" y="3138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06040" y="2293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38040" y="2871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01560" y="3417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82080" y="5676840"/>
            <a:ext cx="1113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Tlalp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73760" y="56768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54880" y="2890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9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3360" y="626436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228600" y="426960"/>
          <a:ext cx="1324764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426960"/>
                    <a:ext cx="1324764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325160" y="5591160"/>
            <a:ext cx="1113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Tlalp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88440" y="55627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280" y="469728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4120" y="47149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93160" y="472608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3240" y="472608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81080" y="47163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38200" y="472608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5937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0890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45080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19699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7880" y="3240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3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8680" y="3240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97600" y="2422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1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43720" y="2476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0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99360" y="2690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5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17040" y="2951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9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2040" y="3319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4920" y="3524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39760" y="2556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85880" y="2644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38280" y="3033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57400" y="3322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040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114480" y="885960"/>
          <a:ext cx="11776320" cy="44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480" y="885960"/>
                    <a:ext cx="11776320" cy="44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125360" y="571032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lal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17120" y="568152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19840" y="24796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29560" y="29750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76160" y="23130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0480" y="28321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6320" y="51325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38240" y="5132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73120" y="51339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35880" y="51339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1880" y="25002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36440" y="2760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1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2720" y="3925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30520" y="42274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24320" y="2724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05280" y="3271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89520" y="3925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69480" y="42116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1960" y="6292800"/>
            <a:ext cx="787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Tlalpan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9-01-25T17:41:44Z</cp:lastPrinted>
  <dcterms:modified xsi:type="dcterms:W3CDTF">1999-02-26T19:40:18Z</dcterms:modified>
  <cp:revision>255</cp:revision>
  <dc:subject/>
  <dc:title>Gráfica 1 Prevalencia de Uso de Tabaco  Alguna Vez</dc:title>
</cp:coreProperties>
</file>