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CE3-E0A4-467A-8E37-3C6FB88F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528-A9F4-4987-AA06-89D4DF17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5D0-1CC1-45FC-94CD-147FAFE3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25F-A498-4E8E-952A-A300C223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458-7E2A-4DAD-BE41-D1D4008B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F2C-6D08-4537-B042-EF265EF9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EA8-0F72-4E2C-B5C1-7A8CABAD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0AA-5CD0-459E-8080-935C6BCD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21F-C859-4EBE-ACAF-8DD7BFC5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608-71A4-4CD5-A4AE-8C1A468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EA2-3D48-4B8E-9CEC-7DC2CEC1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937-462F-4CB2-AD51-2EB0AF7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B9B-A4AC-4E5D-8524-78FE72E230A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4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171360" y="455760"/>
          <a:ext cx="132760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455760"/>
                    <a:ext cx="132760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183320" y="5553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553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28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20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01680" y="47912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3544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516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5720" y="417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78080" y="27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86120" y="3189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80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2168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848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5508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33480" y="554040"/>
          <a:ext cx="1223820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480" y="554040"/>
                    <a:ext cx="1223820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97240" y="561960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31040" y="559116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43216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43216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0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731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6824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9160" y="49132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1720" y="491328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491328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30508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30508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30364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40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899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320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2560" y="32637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8760" y="3562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7960" y="39337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14560" y="35496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292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5360" y="41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24320" y="33782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74520" y="3692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06360" y="404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7280" y="35211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3480" y="37782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637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8432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57640" y="38354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19360" y="4106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61288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1288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54628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5462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54628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9544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954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94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ó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ó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525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41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0640" y="43257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49880" y="33829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6520" y="34974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530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12920" y="438120"/>
            <a:ext cx="857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285840" y="1143000"/>
          <a:ext cx="13390560" cy="46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143000"/>
                    <a:ext cx="13390560" cy="46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8900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1316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945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0644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4176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386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6480" y="53244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87920" y="531036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12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40240" y="457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1457280"/>
            <a:ext cx="8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24400" y="473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48440" y="3832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341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6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8480" y="528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93080" y="53118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2783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27832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2640" y="595476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41720" y="59547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42280" y="5954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38680" y="32338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3235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9400" y="4435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81040" y="3205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7316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50680" y="48513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2354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7924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7840" y="4822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4960" y="38973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8400" y="2227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76200" y="23796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7240" y="1687680"/>
          <a:ext cx="1217592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687680"/>
                    <a:ext cx="1217592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052640" y="16970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91080" y="169704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4880" y="169704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71160" y="15778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200" y="157788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32320" y="157968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49756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96080" y="5499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5280" y="491004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96960" y="4505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11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6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0680" y="4908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55240" y="219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5120" y="549756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49756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603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4240" y="4667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19960" y="3808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4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992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6480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83760" y="3776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90000" y="2975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920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5760" y="58104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104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5400" y="2438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5256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772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772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81560" y="5772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257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52720" y="173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72160" y="22575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321600"/>
            <a:ext cx="7995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7936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171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940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95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1960" y="63216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5520" y="3006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882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6600" y="186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9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29528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5198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5198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5198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960" y="2631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5131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117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2976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32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432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849240"/>
          <a:ext cx="888048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849240"/>
                    <a:ext cx="888048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5120" y="531648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9452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319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1240" y="531972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2189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855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240" y="265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400" y="36846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5520" y="2217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56880" y="2751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281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06040" y="24084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86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5892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9712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88080" y="57340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800" y="32907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57240" y="541440"/>
          <a:ext cx="1284444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7240" y="541440"/>
                    <a:ext cx="1284444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97080" y="5734080"/>
            <a:ext cx="166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02760" y="57056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" y="47829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6680" y="48006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0764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4800" y="481176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23840" y="4802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09760" y="481176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9840" y="16509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214632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8680" y="1508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2640" y="202716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480" y="3382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21600" y="3754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3280" y="27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9400" y="26766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7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6600" y="3090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8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74280" y="3637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052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4920" y="3638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82520" y="26701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28640" y="27590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5360" y="3147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42920" y="3436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171360" y="884160"/>
          <a:ext cx="1324764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884160"/>
                    <a:ext cx="1324764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011960" y="56815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V. Carr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920" y="56530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50812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300348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2341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8605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5120" y="51609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4080" y="5160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72880" y="51624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93040" y="5162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320" y="2728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3303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2520" y="3925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7360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24440" y="278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1080" y="33004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548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83880" y="4297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Venustiano Carranza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25:31Z</dcterms:modified>
  <cp:revision>268</cp:revision>
  <dc:subject/>
  <dc:title>Gráfica 1 Prevalencia de Uso de Tabaco  Alguna Vez</dc:title>
</cp:coreProperties>
</file>