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26B-D4E4-4446-8DF2-1AEDABF9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3C1-1EB6-46D8-8A30-4A6DCE62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F8E-B41E-4234-A3F5-DF560749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741-D794-4161-A4D4-761DFACD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9ABF-0481-49C7-865F-99605FBB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2D9-4D15-45F2-BAF8-E1C2F4D0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AE28-385E-47E4-9C5D-E97FF800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7414-C6AF-4697-B5A3-8763BAE8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43AB-3E73-4F28-88F7-30972FF6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EA1-8D22-4F46-8FDD-C8B601B6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00D-39B2-42E2-917E-365BD756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7497-4718-4656-8068-4A63CB25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5F45-929A-4384-8881-29A11E0874A8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098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320" y="598320"/>
          <a:ext cx="1238256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" y="598320"/>
                    <a:ext cx="123825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067040" y="57243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45880" y="5667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2520" y="48751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9240" y="49323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6200" y="49338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35120" y="49338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72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8640" y="4284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06520" y="20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290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53080" y="4168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64280" y="4284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4200" y="2986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83560" y="324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119160" y="439560"/>
          <a:ext cx="1272384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9160" y="439560"/>
                    <a:ext cx="1272384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783000" y="5419800"/>
            <a:ext cx="183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59840" y="53910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19120" y="21178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8604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10400" y="21178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664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000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6846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5208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1188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95920" y="47131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11360" y="19908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79440" y="19908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6160" y="19890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8160" y="2835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424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3200" y="387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2925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20320" y="359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16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5696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360" y="4078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2637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900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4928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0328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6392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7016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8624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4796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52568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568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0890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0890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19382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19382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19368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7484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7499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583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78240" y="466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9440" y="421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2354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3440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330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5748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5748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1744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4160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296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52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05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6704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38164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360" y="53672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9942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775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51960" y="4905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4022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398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397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032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92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5944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56040" y="5959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58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81600" y="2948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921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784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66720" y="2919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4010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49658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264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2049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1120" y="49942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726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9960" y="2598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4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18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046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85680" y="171612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171612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81080" y="16970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19520" y="1697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43680" y="16970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9600" y="15778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15778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15796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85240" y="544032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53000" y="54421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89440" y="49579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39560" y="459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76400" y="216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7760" y="4937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74400" y="4464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3880" y="2284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7880" y="544032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24240" y="544032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01120" y="26319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424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62880" y="337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9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5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79120" y="4867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080" y="35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32760" y="3346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52400" y="1560600"/>
          <a:ext cx="848196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560600"/>
                    <a:ext cx="848196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19640" y="58672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581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85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85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85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0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67040" y="219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4336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52840" y="20192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2019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4316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4316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5339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5339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5339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79560" y="3171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40120" y="2568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6480" y="2575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9640" y="2778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00240" y="2597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2120" y="194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93720" y="1298520"/>
          <a:ext cx="88012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298520"/>
                    <a:ext cx="88012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2592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6208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82760" y="2174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1600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0320" y="2603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9560" y="3090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02080" y="318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7844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071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33440" y="1020600"/>
          <a:ext cx="87105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1020600"/>
                    <a:ext cx="87105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93560" y="550692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1760" y="5538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538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5360" y="55389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3600" y="1531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7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08800" y="1998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6600" y="2398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9960" y="286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6720" y="35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87080" y="2360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5320" y="2894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45600" y="3424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579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66480" y="3129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732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9880" y="5872320"/>
            <a:ext cx="183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88080" y="58723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54680" y="2633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240" y="657360"/>
          <a:ext cx="1254600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57360"/>
                    <a:ext cx="1254600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68640" y="5562720"/>
            <a:ext cx="183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276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88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6488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8168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660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5252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8644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7120" y="17082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11080" y="222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040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35720" y="3611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880" y="202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6640" y="25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2280" y="2290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09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0840" y="34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66480" y="3666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755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71400" y="2787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5360" y="32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57240" y="3494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80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4480" y="912960"/>
          <a:ext cx="124380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912960"/>
                    <a:ext cx="124380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38600" y="57103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enito Juár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3156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050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884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403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9400" y="5246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09760" y="524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73080" y="52484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35800" y="5248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7720" y="2128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4046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52680" y="3211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02040" y="4427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2809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160" y="3328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46880" y="4011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2648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Benito Juárez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/>
  <dc:description/>
  <dc:language>en-US</dc:language>
  <cp:lastModifiedBy>Liliana</cp:lastModifiedBy>
  <cp:lastPrinted>1998-12-23T22:13:43Z</cp:lastPrinted>
  <dcterms:modified xsi:type="dcterms:W3CDTF">1999-02-26T18:19:14Z</dcterms:modified>
  <cp:revision>133</cp:revision>
  <dc:subject/>
  <dc:title>Gráfica 1 Prevalencia de Uso de Tabaco  Alguna Ve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Villatoro, J., Medina-Mora, M.E., Cardiel, H., Alcántar, E., Fleiz, C., Parra, J., Navarro, C. Néquiz, G. (1999). Consumo de Drogas, Alcohol y Tabaco en Estudiantes del Distrito Federal: medición otoño 1997. Reporte General del DF. SEP, IMP, México.</vt:lpwstr>
  </property>
  <property fmtid="{D5CDD505-2E9C-101B-9397-08002B2CF9AE}" pid="13" name="OutputDir">
    <vt:lpwstr>C:\cnavarro\Enuesta1997\REPORTE\Delegaciones\BenitoJua\Benithtm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