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5C2-C5AC-4C76-AA36-24A2ADF3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EE2-7FAD-4D4C-9191-70DBE69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82C-AC6B-48A5-99F7-655BA2D7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C06-5C7A-4D84-9AB1-976D7F9D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A74-7FB2-4C6F-B116-CE9B49E6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E0E-9ECD-4201-9B10-407B7694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FD7-979D-4EE5-B239-6490698F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398-D061-43DB-8249-E6AB386E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B42-12E9-4762-9AC4-64564F42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B68-EDC4-411A-8EFD-B8008DB0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7A4-91D9-47D2-9B46-1408CD5C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48B-AE35-4939-9D4A-3A1FDF4B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8593-9CB1-45FC-ACF6-E74C21B45E6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53080" y="5800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381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26960"/>
          <a:ext cx="12266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6960"/>
                    <a:ext cx="12266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3160" y="56959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31400" y="5695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604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252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73280" y="4762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1000" y="4762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14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68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7860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4852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632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496800"/>
          <a:ext cx="12527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496800"/>
                    <a:ext cx="12527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3080" y="5448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598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880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272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991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4032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868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960" y="30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1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298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60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978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800" y="42210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492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05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5256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56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464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464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7484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749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44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7824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9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2725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2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387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0024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0024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8770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6712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382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666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344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64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906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40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70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906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7336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7336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89080" y="5024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25240" y="4705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6200" y="5022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54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84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924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6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6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21440" y="5867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9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576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74920"/>
          <a:ext cx="833940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74920"/>
                    <a:ext cx="8339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2114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18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4400" y="2076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22120" y="177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0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6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778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397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8000" y="1298520"/>
          <a:ext cx="946944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98520"/>
                    <a:ext cx="946944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4910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4910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4910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10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464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2740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6388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088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7760" y="735120"/>
          <a:ext cx="87962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735120"/>
                    <a:ext cx="87962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05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332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5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55360" y="51958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680" y="1874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34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1368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70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39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1720" y="569124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91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2976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512640"/>
          <a:ext cx="126684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12640"/>
                    <a:ext cx="126684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4800" y="5648400"/>
            <a:ext cx="136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824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9528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225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98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54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848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7760" y="23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03080" y="3179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5408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1400" y="2701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86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7240" y="627120"/>
          <a:ext cx="12295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27120"/>
                    <a:ext cx="12295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6080" y="571032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yoac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7448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372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132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2168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32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000" y="3998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23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oyoacá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0T21:02:54Z</cp:lastPrinted>
  <dcterms:modified xsi:type="dcterms:W3CDTF">1999-02-26T20:34:30Z</dcterms:modified>
  <cp:revision>126</cp:revision>
  <dc:subject/>
  <dc:title>Gráfica 1 Prevalencia de Uso de Tabaco  Alguna Vez</dc:title>
</cp:coreProperties>
</file>