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B3F0-1322-4228-9112-F6D4DDD1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F27-F335-4587-8FF3-37BA64C3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491-F777-41CD-BABE-D24F44CB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62B-EF83-4669-BD6F-3161160C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4BA-6005-4BD4-B509-0D7F810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72CF-840C-4031-A837-E7D8533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F03-2961-4C83-AC36-ACDF8A07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52A-260C-49D7-A484-C035F051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186-2B01-493D-8487-10649CFC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E55-E442-41C0-85B1-307B5722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DB9-5A63-43BF-B111-537846C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F81B-ECB7-4844-BF0C-0050C6E7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0DDD-6E92-4D24-AFE7-339EF71B1F0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87560" y="580068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0000" y="23241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5920" y="56102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57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620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0668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7720" y="3855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2039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2903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3896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3584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420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200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57240" y="525600"/>
          <a:ext cx="125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25600"/>
                    <a:ext cx="125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41280" y="547704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4552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03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03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03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2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4448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996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2766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2766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2748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300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080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8240" y="334980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7560" y="364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4006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51040" y="4135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844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90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270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748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351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417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574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95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62355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41520"/>
          <a:ext cx="1238256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41520"/>
                    <a:ext cx="1238256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6035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6035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6035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526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52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512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543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8048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11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782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273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0024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0024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8164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0204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51960" y="481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20880" y="4146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040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220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04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11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84880" y="5904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29360" y="3549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95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206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202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56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48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42920" y="1773360"/>
          <a:ext cx="120902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773360"/>
                    <a:ext cx="120902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686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686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686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4944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4944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508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850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672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50245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62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50227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472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648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40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58000" y="268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8992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28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67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3317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386000"/>
          <a:ext cx="8481960" cy="45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386000"/>
                    <a:ext cx="848196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06960" y="58104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5844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295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581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24452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24452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95480" y="302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6480" y="2657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4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68720" y="211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25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840" y="54579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259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100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111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06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09640" y="1182600"/>
          <a:ext cx="8791560" cy="44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1182600"/>
                    <a:ext cx="8791560" cy="44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89748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3364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9580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39640" y="22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0480" y="248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8760" y="2774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6404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87760" y="3475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2136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0680" y="907920"/>
          <a:ext cx="86533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907920"/>
                    <a:ext cx="86533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7960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900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4800" y="17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6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6040" y="2255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2640" y="21700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18400" y="2747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720" y="3427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440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840" y="2436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66480" y="3014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000" y="356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440" y="57484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748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12280" y="2976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7240" y="398520"/>
          <a:ext cx="123555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398520"/>
                    <a:ext cx="123555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69720" y="5734080"/>
            <a:ext cx="17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5984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96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788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0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524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0960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12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0728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000" y="1994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200" y="23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2280" y="2719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95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8080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3960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8572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000" y="3062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4312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33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4124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4124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97480" y="5710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uauhtém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45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720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071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936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79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03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9128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2400" y="3840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08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Cuauhtémo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1T19:16:57Z</cp:lastPrinted>
  <dcterms:modified xsi:type="dcterms:W3CDTF">1999-02-26T20:30:35Z</dcterms:modified>
  <cp:revision>135</cp:revision>
  <dc:subject/>
  <dc:title>Gráfica 1 Prevalencia de Uso de Tabaco  Alguna Vez</dc:title>
</cp:coreProperties>
</file>