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7F3-CD97-4296-9C70-4D9407CB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B0A-A9B9-4CF7-83DD-24A4EA84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CB8-08D1-493B-9350-CCC8741F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B31-0E67-4C73-9C58-009825EA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329-6D2D-43FD-B63C-3666AEFB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758-CA3B-4F93-8C3D-537AB190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71E-BF16-456F-B3F1-30725C4A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C7B-9C18-41FD-A9BC-9B58B569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3C3-1231-432D-A130-5A4EF2E6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17E-AEFA-4A3C-B11C-EF641B13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044-A52A-41E7-A301-31D0A39B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ACF-4833-4B29-BB3E-EC2E8E6A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5F6D-BACC-4496-953D-AB56C3867361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523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804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5680" y="398520"/>
          <a:ext cx="13074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98520"/>
                    <a:ext cx="13074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96200" y="566748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804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0924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480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9252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29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34960" y="2668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4560" y="2846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5324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6444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280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9784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488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68360"/>
          <a:ext cx="1313172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68360"/>
                    <a:ext cx="131317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954360" y="553392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05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01560" y="47991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168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728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6216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6216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607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5120" y="40766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3782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59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5200" y="40194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426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8860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2240" y="4078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32925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0312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92200" y="396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724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4620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4021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15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6560" y="4021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0712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7032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7032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178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178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178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67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67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65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5944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6760" y="355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726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23160" y="4187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6292800"/>
            <a:ext cx="80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71440"/>
          <a:ext cx="1347660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71440"/>
                    <a:ext cx="1347660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38164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9660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0556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80760" y="4734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860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13920" y="2427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92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25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925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81600" y="3147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521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0984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7000" y="3552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9040" y="1878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600" y="3868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3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64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7240" y="1630440"/>
          <a:ext cx="122061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30440"/>
                    <a:ext cx="122061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138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004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2000" y="4824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208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9120" y="4794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40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148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644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6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8800" y="30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391400" y="58104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2640" y="2924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67040" y="29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2452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3216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3760" y="33717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704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171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196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392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9620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112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2200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1148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32160" y="2889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847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321600"/>
            <a:ext cx="810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3960" y="294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00240" y="2625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44880" y="2178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91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1800" y="6292800"/>
            <a:ext cx="795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5252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5252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055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055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055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9688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677880"/>
          <a:ext cx="897552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677880"/>
                    <a:ext cx="897552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28804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2624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416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8280" y="21034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598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662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313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120" y="2665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02840" y="322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172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4920" y="2928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58800" y="353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4360" y="576252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0256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900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28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85680" y="484200"/>
          <a:ext cx="129315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484200"/>
                    <a:ext cx="129315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8480" y="5648400"/>
            <a:ext cx="182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16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9540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65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606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223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41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297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38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5360" y="2536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72520" y="25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99880" y="31766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294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61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7172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6292800"/>
            <a:ext cx="800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826920"/>
          <a:ext cx="124682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826920"/>
                    <a:ext cx="124682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81920" y="568152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. A. Mad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1728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489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346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160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09960" y="5160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0160" y="5162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64280" y="5162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212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528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7344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9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10160" y="26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8360" y="3243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75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8356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96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Gustavo A. Mader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27:48Z</dcterms:modified>
  <cp:revision>152</cp:revision>
  <dc:subject/>
  <dc:title>Gráfica 1 Prevalencia de Uso de Tabaco  Alguna Vez</dc:title>
</cp:coreProperties>
</file>