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1B5-D39C-4449-A258-74C3D399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BD2-A1A3-4EA4-A560-F02D4CD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0E4-D91D-4DAD-AD51-493E1315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6B2-A40C-4D1A-A819-0B7906D5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28A-7135-44F9-8923-ED7FA780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02D-6D6F-4FD6-8B26-D0ACB14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D06-53C0-44FB-B750-E5B3B8B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F5A-1FBF-4BA5-88B7-29DEF92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2D2-F394-405D-9435-7630DC3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D76-98C6-4C18-B0F4-577B4005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FE3-C403-4DDF-B936-8ACF327C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440F-0E3F-4439-B860-48442908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63E2-0CC8-48D7-A78D-116F0E35BC5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2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70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8920" y="426960"/>
          <a:ext cx="131014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426960"/>
                    <a:ext cx="131014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102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61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61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4976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49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2588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58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43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50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2628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6440" y="620712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9520" y="439560"/>
          <a:ext cx="129301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9520" y="439560"/>
                    <a:ext cx="129301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5080" y="550548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1708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0880" y="47419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419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419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88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30160" y="30639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63080" y="353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049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04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38276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8276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0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68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40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5748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5748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0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960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1860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43080" y="2598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6124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933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592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94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29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033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403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7920" y="2455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6064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6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9320" y="222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96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7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983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77200" y="3665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22160" y="1587600"/>
          <a:ext cx="84870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587600"/>
                    <a:ext cx="84870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76360" y="5867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5824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4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838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67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714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62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085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67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888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0548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054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9320" y="550548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9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225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72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404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5245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054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9360" y="1835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2360" y="1293840"/>
          <a:ext cx="8972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293840"/>
                    <a:ext cx="8972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4024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7640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720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0320" y="254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7016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66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73480" y="33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39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735120"/>
          <a:ext cx="914400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5120"/>
                    <a:ext cx="91440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79440" y="53737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376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376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73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6588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852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70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224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412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440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172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5216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9240" y="57769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88080" y="5776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9320" y="48420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0" y="48420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12280" y="5762520"/>
            <a:ext cx="185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82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27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132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4160" y="16794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5080" y="2195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93000" y="15526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68160" y="2068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5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230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43880" y="26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52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65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09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640" y="655560"/>
          <a:ext cx="12554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40" y="655560"/>
                    <a:ext cx="12554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2464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zcapotz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089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648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240" y="2271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296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62480" y="31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1786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tzcapotz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17:42:04Z</cp:lastPrinted>
  <dcterms:modified xsi:type="dcterms:W3CDTF">1999-02-26T20:41:28Z</dcterms:modified>
  <cp:revision>106</cp:revision>
  <dc:subject/>
  <dc:title>Gráfica 1 Prevalencia de Uso de Tabaco  Alguna Vez</dc:title>
</cp:coreProperties>
</file>