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3A9-B85C-46F8-9C6F-4B72B5B9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72F5-641E-41B2-B999-75F1F13C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7F7-6076-4FBD-972A-8CFB9AD2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875-F465-40A1-AFF2-88A7FBEB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F01-9C97-484E-A3D8-D2DF126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EC8-F058-4C06-A16A-0F01AAA2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8F3-EED6-49BB-9858-D8597C38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6F0-EB68-4D0D-85F6-A9D8C36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33D-AC90-40D5-8994-3584CF55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94D-D149-4F11-A3E9-3F6C9F02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88D-61E2-48D4-B98C-F7D304F8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B7D-C7A3-4527-AA25-8C6F79FB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8735-9C13-4920-B37A-2F8F17A716B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858960" y="5629320"/>
            <a:ext cx="34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9960" y="562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09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41280"/>
          <a:ext cx="127875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41280"/>
                    <a:ext cx="127875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25000" y="56102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74320" y="56102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632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0188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9236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280" y="2982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032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2152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144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768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96800"/>
          <a:ext cx="130460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96800"/>
                    <a:ext cx="130460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10680" y="550548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770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747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747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747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75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991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480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480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462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44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367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36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3208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3440" y="3906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3210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03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6864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9480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66080" y="3902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21140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21140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21140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117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11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1192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42448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89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54296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917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4259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0780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421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76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68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49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1024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321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6280" y="346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14720" y="1935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628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4641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85240" y="54687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53160" y="547056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46320" y="4881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3500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6008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4960" y="54687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7000" y="54687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88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9400" y="320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2188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4084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1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58800"/>
          <a:ext cx="848196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58800"/>
                    <a:ext cx="848196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4680" y="5867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2581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2752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38240" y="2771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09800" y="22766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4352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04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36440" y="22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6532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35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5920" y="2340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2235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3400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340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34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1360" y="268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232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7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6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6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2160" y="820800"/>
          <a:ext cx="917712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820800"/>
                    <a:ext cx="91771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520" y="52308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16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624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624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2246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452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8508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480" y="31478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99320" y="3684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1200" y="269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31480" y="325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79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0800" y="295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53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6600" y="570564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308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20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60480" y="598320"/>
          <a:ext cx="146019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480" y="598320"/>
                    <a:ext cx="14601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762520"/>
            <a:ext cx="145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86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36080" y="49258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9546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88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9744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9388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3130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50040" y="3782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822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6640" y="293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519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90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72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75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844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522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47520" y="712800"/>
          <a:ext cx="125283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712800"/>
                    <a:ext cx="125283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96560" y="562464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ztapal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744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007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627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6684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4428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503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6360" y="2814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7000" y="3811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5912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8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6120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Iztapalap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21:23Z</dcterms:modified>
  <cp:revision>180</cp:revision>
  <dc:subject/>
  <dc:title>Gráfica 1 Prevalencia de Uso de Tabaco  Alguna Vez</dc:title>
</cp:coreProperties>
</file>