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081-2F68-4EFA-833B-6A8BBAE0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CC9-C314-4E25-BD6C-D07728F5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424-D9CA-4D96-AB88-8602914E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25A-D436-46EA-A1FD-50317480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654-5474-4C74-8996-8E691401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1E5-8A82-4C05-B757-B339EE31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4F0-480B-4D77-A158-8BFD13C0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FAC-CAC7-44D7-BE28-9011EA8C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8A0-C9A2-4FBC-8CEB-63D097BB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AC89-815E-4F44-8713-AC1A8912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0AD-9BE1-4346-AF24-571005AB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0FEA-EEF2-436F-97BE-E1912135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B222-10BC-47EA-9F08-05ED06A32D1A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9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36360" y="398520"/>
          <a:ext cx="126126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398520"/>
                    <a:ext cx="126126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209600" y="55530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3120" y="55530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0188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2116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928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708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3068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14560" y="3132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188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215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144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69240" y="3075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182520" y="582480"/>
          <a:ext cx="1295856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520" y="582480"/>
                    <a:ext cx="1295856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11560" y="5505480"/>
            <a:ext cx="12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8440" y="54770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604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604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604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388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8724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116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776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316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337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337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319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12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80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09080" y="3990960"/>
            <a:ext cx="6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1520" y="373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5036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136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2188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4066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432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605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2080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860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71920" y="3892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9088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55600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5600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384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38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366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383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35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211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78680" y="395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3554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130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13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8592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8592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1744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4160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2296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52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705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6704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760" y="541008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73600" y="53672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6224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8610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154296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9508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146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56680" y="2341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04160" y="54259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032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421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4200" y="59976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5997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56600" y="59976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521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53000" y="34909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14880" y="3349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492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9536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3438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65000" y="50227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578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86280" y="1792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7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994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429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4280" y="214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8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37848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6188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687680"/>
          <a:ext cx="11744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87680"/>
                    <a:ext cx="11744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38320" y="16970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76760" y="1697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00920" y="16970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56840" y="15778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07880" y="15778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18000" y="15796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8160" y="541188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95920" y="54133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3560" y="49388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2480" y="4419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18960" y="2282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20680" y="490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17320" y="437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6800" y="2313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0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0800" y="541188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67160" y="541188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844040" y="2603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75600" y="4753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06160" y="36655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42120" y="32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22040" y="4838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1220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75680" y="3174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64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0640" y="5867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95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98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7200" y="1962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1971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7804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106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524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8000" y="262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97160" y="1797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46640" y="2803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6532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96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a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921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5920" y="21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1960" y="2949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280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92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20560" y="1208160"/>
          <a:ext cx="897444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1208160"/>
                    <a:ext cx="897444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54560" y="5519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90720" y="55198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81520" y="5519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39840" y="2489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1880" y="2427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27240" y="3089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49760" y="297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45040" y="3532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35520" y="3432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04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5960" y="762120"/>
          <a:ext cx="8798040" cy="46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762120"/>
                    <a:ext cx="879804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22160" y="525924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920" y="5291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0120" y="52912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291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9120" y="2332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1560" y="2998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27800" y="2227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3272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45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8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72760" y="2131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9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720" y="325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1720" y="2379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957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503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5520" y="5734080"/>
            <a:ext cx="12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5944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6240" y="3490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1360" y="684360"/>
          <a:ext cx="122634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684360"/>
                    <a:ext cx="122634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554120" y="5791320"/>
            <a:ext cx="12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17080" y="57625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8080" y="4997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73920" y="49928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7640" y="4997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997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38160" y="49928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4080" y="4997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7938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650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1700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600" y="378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1400" y="3868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3280" y="2965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6640" y="2819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8504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9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1160" y="3780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0840" y="35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6480" y="3781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96840" y="2841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14160" y="2901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8088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0000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3216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12800"/>
          <a:ext cx="124920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2800"/>
                    <a:ext cx="124920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438200" y="5624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ca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6040" y="5624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7654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2604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598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1178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0760" y="5060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24240" y="5060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44440" y="50608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92880" y="5060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892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384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23880" y="3897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44800" y="4056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7696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844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26480" y="4125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ca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19:22:50Z</dcterms:created>
  <dc:creator>JORGE VILLATORO</dc:creator>
  <dc:description/>
  <dc:language>en-US</dc:language>
  <cp:lastModifiedBy>Liliana</cp:lastModifiedBy>
  <cp:lastPrinted>1999-02-10T17:33:10Z</cp:lastPrinted>
  <dcterms:modified xsi:type="dcterms:W3CDTF">1999-02-26T20:23:43Z</dcterms:modified>
  <cp:revision>24</cp:revision>
  <dc:subject/>
  <dc:title>Sin título de diapositiva</dc:title>
</cp:coreProperties>
</file>