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446-A4C0-48DB-9DCF-5AAA89D4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28D-04D2-40FB-88A2-19766C6C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0E1-8D0F-4DED-99A4-FACF953A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C1BF-522B-40C7-923C-F0073E98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1CB-80F4-46A1-8418-168FD63C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BE1-4565-4D7E-BBD0-556F6717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C3A-62C8-4561-94E2-AE19FEAB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CCA-EDA6-4CB7-9013-CEA4F655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FE2-4A40-4CBE-89BA-32157D6D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925-1AD2-4FC9-A43E-B8526817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330-1FCC-4325-9A18-6C3F142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84F-D7BD-4F52-8942-58E310CB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57E0-EA04-41F1-8969-2C2089C1370F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680" y="2809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312840"/>
          <a:ext cx="13133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312840"/>
                    <a:ext cx="13133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297080" y="5495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7240" y="549576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223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6556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1463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800" y="46465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95120" y="4646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6000" y="464832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648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0840" y="3827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394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888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67560" y="3854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444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91240" y="2700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2960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80" y="62355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18960" y="554040"/>
          <a:ext cx="1336176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8960" y="554040"/>
                    <a:ext cx="133617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68440" y="5477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au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45680" y="54482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320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320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320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2628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52240" y="485604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11680" y="48560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485604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0492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0492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0348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836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1320" y="38070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3400" y="4076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844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3464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3480" y="41623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4354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749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000" y="40496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568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9844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7500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0648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1308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8604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4078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628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568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35320" y="446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16320" y="415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071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359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17144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17144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8600" y="10638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5720" y="1063800"/>
            <a:ext cx="193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41480" y="1065240"/>
            <a:ext cx="152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760" y="53532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5160" y="533880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62240" y="48798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67800" y="4660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9880" y="14860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003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3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46920" y="5311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8760" y="534024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0560" y="5364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601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60199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6012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548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3006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51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376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59760" y="3181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70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226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44240" y="1820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8360" y="4822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211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520" y="199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628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-142920" y="1630440"/>
          <a:ext cx="1261116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2920" y="1630440"/>
                    <a:ext cx="1261116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2816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2000" y="4853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082640" y="43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61880" y="219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92400" y="48229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5760" y="4321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84040" y="2227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944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1320" y="463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7704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4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79120" y="4695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080" y="360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75880" y="3032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440" y="5781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781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3038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467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330200"/>
          <a:ext cx="83394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330200"/>
                    <a:ext cx="83394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43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434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434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53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4280" y="20480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114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095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9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199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208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5344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656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39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3720" y="3174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840" y="640728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436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5119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9576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1040" y="3321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14720" y="22827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664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920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2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35252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5252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767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767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767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3032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70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489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3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0720" y="38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17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22320" y="649440"/>
          <a:ext cx="93218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320" y="649440"/>
                    <a:ext cx="93218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22400" y="50878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90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1520" y="511956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2440" y="51195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760" y="250344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40" y="305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70600" y="2770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4688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13640" y="3627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72600" y="2017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42400" y="255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03040" y="308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208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9240" y="2786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72760" y="338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2640" y="564840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5964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83520" y="3462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12640"/>
          <a:ext cx="1278756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12640"/>
                    <a:ext cx="127875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468440" y="567684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455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100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21960" y="48402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8168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6660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408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8511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7082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2273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40" y="3525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2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12080" y="3051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58560" y="324792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633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480" y="3693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0840" y="33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8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41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9840" y="2730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23800" y="3119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0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655560"/>
          <a:ext cx="1252692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5560"/>
                    <a:ext cx="1252692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68440" y="5681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hu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3156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05520" y="19368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4368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0280" y="1770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496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8040" y="49896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4989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3080" y="49910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4991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0480" y="29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08160" y="3389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0976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448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1520" y="25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19720" y="3071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754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068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huac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20:02:58Z</dcterms:modified>
  <cp:revision>232</cp:revision>
  <dc:subject/>
  <dc:title>Gráfica 1 Prevalencia de Uso de Tabaco  Alguna Vez</dc:title>
</cp:coreProperties>
</file>