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D43-50EF-4B30-AA98-77B8F74E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846-6892-4908-A6A5-BACB5BEC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955-2046-454A-9FCC-501747D2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974-3B41-4DBE-8CA8-78A39058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D45-8D31-4088-9BFD-ADF2C890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360-3E6D-410B-9C81-A42FBC66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445-2F29-43F3-8350-B265A2EE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EBE-BA4B-4C41-9C1A-C125DFF5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F29-5380-4A3E-A16E-1A524EE0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BAE-77EC-450F-A745-FCA06C88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608-1584-40C6-B9A2-8D1E2E51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0C2-2219-44C2-9FDA-6567815D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4829-1F7C-4A8A-B866-50A856CCA0EC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409760"/>
          <a:ext cx="815328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09760"/>
                    <a:ext cx="81532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5840" y="5686560"/>
            <a:ext cx="34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95840" y="56865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4120" y="25527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77000" y="2441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5200" y="361800"/>
            <a:ext cx="480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de Uso de Taba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o Alguna 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5480" y="58068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0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-228600" y="455760"/>
          <a:ext cx="1321920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455760"/>
                    <a:ext cx="1321920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81000" y="56386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56386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19840" y="19652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9560" y="24321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76160" y="17985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52040" y="228924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3920" y="478944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80800" y="4789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73240" y="481968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5280" y="4791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sti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7920" y="399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8480" y="4199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92400" y="3040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3417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39120" y="39974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36000" y="414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3436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69040" y="3103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5480" y="263160"/>
            <a:ext cx="857412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1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176040" y="411120"/>
          <a:ext cx="1289988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6040" y="411120"/>
                    <a:ext cx="1289988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155240" y="5533920"/>
            <a:ext cx="152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02760" y="550548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0680" y="228924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228924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2289240"/>
            <a:ext cx="201600" cy="172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2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432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7040" y="47131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66560" y="471312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26000" y="4713120"/>
            <a:ext cx="115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81600" y="4713120"/>
            <a:ext cx="142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2920" y="2162160"/>
            <a:ext cx="16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50640" y="2162160"/>
            <a:ext cx="15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57720" y="2160720"/>
            <a:ext cx="15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128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4240" y="360684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4048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44120" y="38638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49480" y="39625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79520" y="41338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85400" y="35784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4480" y="39211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22240" y="402120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67240" y="323532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17440" y="354960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77720" y="39052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432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60520" y="3664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4960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27400" y="34066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43120" y="3720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90880" y="396396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18960" y="1119240"/>
            <a:ext cx="8574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1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Drog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E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2498760"/>
          <a:ext cx="1223820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8760"/>
                    <a:ext cx="1223820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1424160" y="2460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91080" y="2460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15080" y="2460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5680" y="230976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arigu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3040" y="2309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89400" y="23083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4520" y="56340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 años o 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0320" y="56358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6 años o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82920" y="44974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21000" y="4640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87880" y="44402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920" y="3554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9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43760" y="4268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37640" y="4044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4120" y="43812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Gráfica 13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olerancia Social al Uso de Sustancia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314280" y="1228680"/>
          <a:ext cx="1339056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1228680"/>
                    <a:ext cx="1339056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060560" y="118260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4720" y="118260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65720" y="118260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0" y="108900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b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13320" y="10890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Ni  bien ni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9800" y="109044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ían 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320" y="541008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16360" y="5367240"/>
            <a:ext cx="163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76560" y="49658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9360" y="48038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77120" y="142884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23520" y="47912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0000" y="41752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5120" y="2198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32800" y="5369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35840" y="539748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22120" y="5421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79080" y="536400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ompañ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96960" y="59832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0520" y="5991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27800" y="59832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r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02080" y="4521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81440" y="34909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3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86440" y="3178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8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77840" y="4492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09680" y="34052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30240" y="32958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45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2188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51400" y="43783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57480" y="18781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83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1120" y="4937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6520" y="40687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24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6360" y="21985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720" y="637848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33440" y="409680"/>
            <a:ext cx="85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14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ercepción de Riesgo Asociada al Uso de Sustanci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8440" y="1630440"/>
          <a:ext cx="12176280" cy="42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1630440"/>
                    <a:ext cx="12176280" cy="42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1109520" y="161136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47960" y="1611360"/>
            <a:ext cx="201600" cy="173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72120" y="1611360"/>
            <a:ext cx="201600" cy="173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28040" y="149220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No 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79080" y="1492200"/>
            <a:ext cx="163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89560" y="1494000"/>
            <a:ext cx="222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Es muy peligr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42120" y="5383080"/>
            <a:ext cx="17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arigua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aí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38840" y="538488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eroína 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Inhal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18040" y="4853160"/>
            <a:ext cx="39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68680" y="45054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76200" y="20541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7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91880" y="48229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17480" y="44640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6800" y="21128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85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6680" y="5383080"/>
            <a:ext cx="16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Fumar 5 ó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igarrill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09920" y="538308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Uso Frec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Alcoh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72320" y="25462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800" y="475308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91160" y="36082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85600" y="30052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6360" y="4781520"/>
            <a:ext cx="5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4960" y="3719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5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76040" y="28893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2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62040" y="1500120"/>
          <a:ext cx="848196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500120"/>
                    <a:ext cx="848196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533600" y="5867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6880" y="5867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7525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4120" y="3209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4880" y="272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81760" y="2981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Nivel Esc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04640" y="1444680"/>
          <a:ext cx="833760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44680"/>
                    <a:ext cx="83376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66720" y="58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9360" y="5800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hill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95880" y="5800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2376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81360" y="264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9040" y="15429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4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57440" y="3209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21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6732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áfica 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alencia Total de Uso de Taba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 Tiempo Dedicado a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36680" y="1442880"/>
          <a:ext cx="9113760" cy="43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2880"/>
                    <a:ext cx="9113760" cy="43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49600" y="55627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estud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1880" y="55627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½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5562720"/>
            <a:ext cx="215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studi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8160" y="2943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25600" y="2197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46640" y="2917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85960" y="2281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55960" y="21668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13360" y="2830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2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635004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5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Tabaco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Por Tiempo Dedicado al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1638360"/>
          <a:ext cx="7925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38360"/>
                    <a:ext cx="7925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068480" y="55148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No trabaj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87560" y="5483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6680" y="5467320"/>
            <a:ext cx="22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bajó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68280" y="30639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3160" y="1911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7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30760" y="2749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6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7560" y="2890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47960" y="225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78480" y="23414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6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495440"/>
          <a:ext cx="8656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95440"/>
                    <a:ext cx="8656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83160" y="560556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lg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56055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0120" y="560556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Ultimo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25520" y="29462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1680" y="2684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5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5840" y="3375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7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49560" y="31766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59160" y="3875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06880" y="3632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7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0760" y="763560"/>
          <a:ext cx="8823240" cy="46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763560"/>
                    <a:ext cx="882324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36680" y="520236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6608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24440" y="523404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26920" y="52340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3440" y="2303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4320" y="2798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1.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6440" y="2684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4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4280" y="32338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2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71040" y="3827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87080" y="2131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8440" y="26654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45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17160" y="31957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3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77600" y="2322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5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38040" y="29005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1560" y="34750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5080" y="5676840"/>
            <a:ext cx="152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16880" y="567684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26240" y="33480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Gráfica 8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600"/>
            </a:br>
            <a:r>
              <a:rPr b="1" lang="es-MX" sz="26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171360" y="569880"/>
          <a:ext cx="1316016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1360" y="569880"/>
                    <a:ext cx="1316016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240920" y="5676840"/>
            <a:ext cx="152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4120" y="56484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20" y="48402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59800" y="485784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50400" y="48690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10480" y="4869000"/>
            <a:ext cx="15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Beb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Prepar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81080" y="485928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Cocte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8200" y="4869000"/>
            <a:ext cx="113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V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de me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1736640"/>
            <a:ext cx="201600" cy="17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86440" y="220356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35920" y="1593720"/>
            <a:ext cx="127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39880" y="2084400"/>
            <a:ext cx="117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3560" y="3639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5920" y="392580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1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54840" y="3022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0.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00960" y="3076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9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8160" y="33195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4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5840" y="372276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09280" y="34336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52160" y="36669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16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9760" y="269892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8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5880" y="278748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3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781040" y="317664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7.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28600" y="3465360"/>
            <a:ext cx="67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Times New Roman"/>
              </a:rPr>
              <a:t>20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5480" y="523440"/>
            <a:ext cx="857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Gráfica 9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revalencia Total de Uso de Alcohol por tipo de Bebid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r Gé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-314280" y="770040"/>
          <a:ext cx="13076280" cy="45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4280" y="770040"/>
                    <a:ext cx="130762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866880" y="56530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ochimil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74320" y="5624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. 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2079720"/>
            <a:ext cx="201600" cy="172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29560" y="2575080"/>
            <a:ext cx="201600" cy="172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76160" y="19130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0480" y="243216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7880" y="5103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67040" y="510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7400" y="51055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5105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ul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7760" y="28432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9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9560" y="35892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09600" y="398304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2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6200" y="4284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9584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34040" y="318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3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89640" y="3868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1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98040" y="4183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4720" y="6292800"/>
            <a:ext cx="79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llatoro, J., Medina-Mora, M.E., Cardiel, H., Alcántar, E., Fleiz, C., Parra, J., Navarro, C., Néquiz, G. (1999). Consumo de Drogas, Alcohol y Tabaco en  Estudiantes del Distrito Federal: medición otoño 1997.  Reporte de la Delegación Xochimilco. SEP, IMP, Méx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1T20:50:32Z</dcterms:created>
  <dc:creator>Liliana</dc:creator>
  <dc:description/>
  <dc:language>en-US</dc:language>
  <cp:lastModifiedBy>Liliana</cp:lastModifiedBy>
  <cp:lastPrinted>1998-12-23T22:13:43Z</cp:lastPrinted>
  <dcterms:modified xsi:type="dcterms:W3CDTF">1999-02-26T19:37:10Z</dcterms:modified>
  <cp:revision>292</cp:revision>
  <dc:subject/>
  <dc:title>Gráfica 1 Prevalencia de Uso de Tabaco  Alguna Vez</dc:title>
</cp:coreProperties>
</file>