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7DC-FDD7-42FA-B035-63F4711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A71-CA5E-4A25-8B9F-7FAAEA50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304-09F2-4449-9C43-D174F7A2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5D1-1542-4379-A56B-DC938DDB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238-A3BE-49C9-A2D3-E91FE6A3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903-131A-4B8B-8996-9CB30DCC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D23-B4C5-4726-BFB2-3A906D79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1951-D30A-415B-8A81-BEC8DD9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8E5-736D-482E-91EE-0155198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A47-06BA-4337-A48D-429A4D3B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8B1-4A91-46E2-A061-B39C04C4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8B3-E9EB-4B18-A110-F6C8B0CA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824-0A99-46D2-A181-F7F80BD6B37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80068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80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6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515880"/>
          <a:ext cx="12928680" cy="42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515880"/>
                    <a:ext cx="129286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2080" y="55818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88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5699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0606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6180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23560" y="46180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19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619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040" y="377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68640" y="39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92200" y="2840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25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040" y="629280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62080" y="582480"/>
          <a:ext cx="131619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2080" y="582480"/>
                    <a:ext cx="131619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11600" y="556272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46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463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398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848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83240" y="4884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10400" y="48848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1924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1924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178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1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76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09080" y="399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92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19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4066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0652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8896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892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19320" y="41353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6440" y="623556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41680"/>
          <a:ext cx="1223820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41680"/>
                    <a:ext cx="1223820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374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37492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1956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195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1938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6244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642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2800" y="335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95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16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04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43000"/>
          <a:ext cx="1339092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43000"/>
                    <a:ext cx="1339092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26716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420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7556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789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7900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576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84480" y="590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897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4160" y="4521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5300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00760" y="3092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2060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4472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5016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23480" y="4378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954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5004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200160" y="1630440"/>
          <a:ext cx="1266840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1630440"/>
                    <a:ext cx="1266840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03720" y="4881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53840" y="4419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63440" y="487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5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408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9136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232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032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9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040" y="632160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449000" y="586728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C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2809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6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5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335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43360" y="22287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428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864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5472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3888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635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50040"/>
            <a:ext cx="815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6244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624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624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82760" y="2717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98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1308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6280" y="6292800"/>
            <a:ext cx="796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649440"/>
          <a:ext cx="931536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649440"/>
                    <a:ext cx="93153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649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040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1973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98120" y="519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00" y="21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7280" y="271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13880" y="23702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4120" y="2833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0880" y="325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2984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9640" y="2522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36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14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9560" y="3233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805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41440"/>
          <a:ext cx="13217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41440"/>
                    <a:ext cx="13217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182960" y="5676840"/>
            <a:ext cx="179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6736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952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8112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497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92800" y="3668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8504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2376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096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544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4276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9552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584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9304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9304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080" y="55674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Cont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4604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0468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5046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8760" y="5048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4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800" y="26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1320" y="3583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30320" y="4027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76960" y="3129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0412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2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0400" y="629280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agdalena Contreras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9:15Z</dcterms:modified>
  <cp:revision>191</cp:revision>
  <dc:subject/>
  <dc:title>Gráfica 1 Prevalencia de Uso de Tabaco  Alguna Vez</dc:title>
</cp:coreProperties>
</file>