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579-C509-48EA-9D85-2AD12BEA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0C0-60BE-4AD2-8F5C-320E90A3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9AD-0D52-4739-BE27-C5B1E074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D7F-F48A-44D7-8492-009BC547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236-95E3-4C9F-9B0B-101735AB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2CF-923A-4177-BF6A-8CB3FDCA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27B-DF96-4389-B6D3-7B258463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E8E-F5C8-4947-A85A-33718C3F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C28-0FF7-42F3-94C5-05CF86F4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F354-C603-4CA1-9A89-2FB3E2F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B53-957E-49C4-8F1F-2B325142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80A-CE4C-4FEC-91F4-50DA18A1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C379-394A-4DFC-90C6-6BA27D3FAFB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05876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6720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352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1960" y="629280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42920" y="369720"/>
          <a:ext cx="12985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369720"/>
                    <a:ext cx="12985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4080" y="5581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458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960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8740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7824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70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21000" y="2611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57320" y="2874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072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833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7840" y="6235560"/>
            <a:ext cx="80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0160" y="525600"/>
          <a:ext cx="132159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0160" y="525600"/>
                    <a:ext cx="132159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480" y="55339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55339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035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035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9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000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95160" y="48276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97360" y="48276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2760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0764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0764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0750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2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6160" y="3492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1532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619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160" y="39337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20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601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0792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10160" y="33498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31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20640" y="4019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72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6372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9876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3380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35560"/>
            <a:ext cx="798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281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281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2795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240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668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3583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73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6436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17144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17144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9068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11440" y="4660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3774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152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071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3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13480" y="59259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364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24360" y="3062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00560" y="3664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321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52600" y="2919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838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092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600" y="21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3697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513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640728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4077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4077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8160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7476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2540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3440" y="216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0080" y="22845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220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2424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2956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976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280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7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26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1560" y="3232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7256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638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81360" y="2867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236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38600" y="2219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68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019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68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054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7508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806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68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2035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216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809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809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5680" y="2317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03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6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73640" y="3503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46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91960" y="763560"/>
          <a:ext cx="90806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763560"/>
                    <a:ext cx="90806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176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6736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5000" y="184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2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513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08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289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4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01200" y="2103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2560" y="2637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3164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0520" y="2351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23720" y="2924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5680" y="3503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3640" y="576252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000" y="5762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600" y="6292800"/>
            <a:ext cx="797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8440" y="455760"/>
          <a:ext cx="128426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455760"/>
                    <a:ext cx="128426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61960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20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45480" y="4743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745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5452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7938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6509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1700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7680" y="326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40520" y="24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544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13840" y="286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09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8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57080" y="2673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52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71720" y="3379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" y="6235560"/>
            <a:ext cx="795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0160" y="712800"/>
          <a:ext cx="123523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712800"/>
                    <a:ext cx="123523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2952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. Hid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1938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6892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0271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5462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352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5268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1600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7892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3400" y="241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0796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1120" y="3668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8772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2638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054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4688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9837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9280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guel Hidalg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16:10Z</dcterms:modified>
  <cp:revision>205</cp:revision>
  <dc:subject/>
  <dc:title>Gráfica 1 Prevalencia de Uso de Tabaco  Alguna Vez</dc:title>
</cp:coreProperties>
</file>