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F877-1B93-4F91-A93F-8BEA528CF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3625-9A41-4BCD-AC17-27E1DD80A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F0B3-628C-4028-81D9-8BAB03C56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461C-5803-4115-869A-114C78142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3C69-FE68-4450-B722-74D90DF27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0C05-E971-460F-92C9-E6F9DE45E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5584-5FB3-4033-AD9B-8E568F5B1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86AD-F1D8-44C8-BD79-DD1AB9207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5EE1-6214-4298-BEEE-84C7867E9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8542-74C9-400E-A1B4-523FE86A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9162-12AE-49E4-B6B9-86B4F0D3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2EF7-086E-4318-930C-E1BF6871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40667-0B55-41B5-B4D2-8DCF1A06EF79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520" y="1409760"/>
          <a:ext cx="8153280" cy="43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9760"/>
                    <a:ext cx="815328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552680" y="56865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. Obreg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96000" y="568656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24120" y="2610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1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77000" y="249876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5200" y="361800"/>
            <a:ext cx="480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de Uso de Taba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Uso Alguna V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04720" y="6292800"/>
            <a:ext cx="8088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lvaro Obregó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5480" y="58068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10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-85680" y="398520"/>
          <a:ext cx="1281420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5680" y="398520"/>
                    <a:ext cx="1281420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1040040" y="558180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. Obreg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660000" y="558180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19840" y="19080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29560" y="237492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76160" y="174132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52040" y="22320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6840" y="473220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2000" y="47322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87560" y="473400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149600" y="47340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19280" y="4027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54160" y="41133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135160" y="3268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28880" y="3160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3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681880" y="39402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278760" y="40845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377120" y="2786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954920" y="30463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2560" y="6308640"/>
            <a:ext cx="8012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lvaro Obregó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480" y="263160"/>
            <a:ext cx="8574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11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-233280" y="353880"/>
          <a:ext cx="13103280" cy="467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33280" y="353880"/>
                    <a:ext cx="13103280" cy="46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1097640" y="5362560"/>
            <a:ext cx="157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A. Obreg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59640" y="533412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90680" y="211788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57600" y="211788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81600" y="2117880"/>
            <a:ext cx="201600" cy="172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-26280" y="465624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73120" y="465624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54280" y="465624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95000" y="465624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26000" y="465624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38840" y="465624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82920" y="1990800"/>
            <a:ext cx="16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50640" y="1990800"/>
            <a:ext cx="1569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57720" y="1989000"/>
            <a:ext cx="156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74040" y="33210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47000" y="35211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37520" y="38480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86880" y="36068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91520" y="37339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336040" y="38480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28160" y="32637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02920" y="3692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579120" y="38498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24480" y="314964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46240" y="34923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934960" y="38480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512760" y="33210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917760" y="35784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149600" y="38782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784640" y="33498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157600" y="36640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476560" y="38782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04720" y="6178680"/>
            <a:ext cx="8037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lvaro Obregó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18960" y="1119240"/>
            <a:ext cx="85741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12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Edad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0" y="1068480"/>
          <a:ext cx="12238200" cy="46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8480"/>
                    <a:ext cx="12238200" cy="46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424160" y="251784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91080" y="251784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15080" y="2517840"/>
            <a:ext cx="201600" cy="172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15680" y="236700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83040" y="23670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89400" y="236520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82960" y="557676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 años o m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51680" y="557856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6 años o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82920" y="40402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92560" y="41544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345120" y="3868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07120" y="32400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43760" y="401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008840" y="36450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61800" y="6292800"/>
            <a:ext cx="799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lvaro Obregó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84120" y="43812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Gráfica 13</a:t>
            </a: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olerancia Social al Uso de Sustancia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-399960" y="1171440"/>
          <a:ext cx="13390560" cy="463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99960" y="1171440"/>
                    <a:ext cx="13390560" cy="463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1060560" y="11826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84720" y="118260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65720" y="118260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78000" y="108900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b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613320" y="108900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Ni  bien ni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09800" y="1090440"/>
            <a:ext cx="14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-34920" y="5324400"/>
            <a:ext cx="13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002240" y="5281560"/>
            <a:ext cx="16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674760" y="490536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82120" y="46609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6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05760" y="1457280"/>
            <a:ext cx="8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3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737840" y="47624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834320" y="40608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2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213760" y="21985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3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18480" y="528336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364640" y="531180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50560" y="533556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579080" y="527832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9720" y="592596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Taba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956040" y="599112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327800" y="598320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ro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31240" y="45496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8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567320" y="34336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9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144400" y="29782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107000" y="45212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224000" y="33195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2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716120" y="31813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7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522240" y="4851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436920" y="43498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4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871800" y="17636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84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0600" y="485136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50840" y="40114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3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27040" y="21416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4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61960" y="6435720"/>
            <a:ext cx="797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lvaro Obregó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76200" y="23796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4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ercepción de Riesgo Asociada al Uso de Sustanci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-57240" y="1601640"/>
          <a:ext cx="12580920" cy="420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7240" y="1601640"/>
                    <a:ext cx="12580920" cy="42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938160" y="161136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576600" y="161136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00760" y="161136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156680" y="1492200"/>
            <a:ext cx="198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No 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07720" y="1492200"/>
            <a:ext cx="163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118200" y="1494000"/>
            <a:ext cx="22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muy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770720" y="5526000"/>
            <a:ext cx="17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881760" y="5527800"/>
            <a:ext cx="142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eroí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17680" y="48243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139880" y="44481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3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747560" y="2082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5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777920" y="48229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74200" y="43498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5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712480" y="2170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45120" y="5526000"/>
            <a:ext cx="165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Fumar 5 ó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igarrill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681280" y="5526000"/>
            <a:ext cx="189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so Frecu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Alcoh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558200" y="25178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47000" y="46674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005480" y="3608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8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613520" y="30337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5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908080" y="472428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12200" y="3633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8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747240" y="29462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7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04720" y="6292800"/>
            <a:ext cx="799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lvaro Obregó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888840" y="1365120"/>
          <a:ext cx="8255160" cy="435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8840" y="1365120"/>
                    <a:ext cx="8255160" cy="43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678320" y="566748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Obreg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29800" y="566748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09880" y="272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924280" y="26956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1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4368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10200" y="2666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6292800"/>
            <a:ext cx="8024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lvaro Obregó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Nivel Esc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04640" y="1330200"/>
          <a:ext cx="833940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1330200"/>
                    <a:ext cx="833940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66720" y="5715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nd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19360" y="5715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hille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81560" y="5715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66880" y="33717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952720" y="1962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57840" y="1971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1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28640" y="30956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1990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67320" y="1990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4720" y="6321600"/>
            <a:ext cx="8024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lvaro Obregó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Tiempo Dedicado a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93560" y="1362240"/>
          <a:ext cx="8650440" cy="44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1362240"/>
                    <a:ext cx="8650440" cy="44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820800" y="544824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estudi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953440" y="5448240"/>
            <a:ext cx="13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udi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½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98000" y="5448240"/>
            <a:ext cx="215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udi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79360" y="2629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11320" y="2425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0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9600" y="2860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0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57160" y="2195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51200" y="2109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27520" y="2744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6280" y="6350040"/>
            <a:ext cx="7986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lvaro Obregó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5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Tabaco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Por Tiempo Dedicado al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38080" y="1495440"/>
          <a:ext cx="7925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495440"/>
                    <a:ext cx="7925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068480" y="540072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trabaj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89360" y="536904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bajó 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88120" y="5353200"/>
            <a:ext cx="22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baj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39640" y="2978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28840" y="2168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30560" y="2892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1880" y="2776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62280" y="20811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49680" y="2170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6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6280" y="6350040"/>
            <a:ext cx="797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lvaro Obregó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23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6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1438200"/>
          <a:ext cx="86569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438200"/>
                    <a:ext cx="86569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983160" y="5576760"/>
            <a:ext cx="16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19320" y="557676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10120" y="557676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53960" y="2889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7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16000" y="26272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5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56000" y="3317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92320" y="31194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30720" y="39322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50000" y="36036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1800" y="6292800"/>
            <a:ext cx="797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lvaro Obregó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7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77840" y="706320"/>
          <a:ext cx="9205920" cy="464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706320"/>
                    <a:ext cx="9205920" cy="464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93760" y="5116680"/>
            <a:ext cx="127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08840" y="51483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52880" y="514836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12600" y="51483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2080" y="2475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80200" y="29988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6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13560" y="3608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3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70760" y="24271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8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118600" y="29480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7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85000" y="37130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72760" y="20462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85320" y="26082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45600" y="3138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63280" y="2265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5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94920" y="28717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9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87240" y="34466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7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26120" y="5634000"/>
            <a:ext cx="157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A. Obreg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73760" y="563400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1800" y="6292800"/>
            <a:ext cx="797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lvaro Obregó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Gráfica 8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6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8440" y="484200"/>
          <a:ext cx="1290168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40" y="484200"/>
                    <a:ext cx="1290168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068840" y="5648400"/>
            <a:ext cx="157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A. Obreg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9640" y="561960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720" y="475452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31000" y="47721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50400" y="481176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53240" y="484020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23840" y="477360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09760" y="478296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19840" y="159372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29560" y="208908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78680" y="145080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82640" y="196992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4760" y="36972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4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35920" y="3639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5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11920" y="30798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8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29600" y="2847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3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799360" y="3376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1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17040" y="3579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6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09280" y="3348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66480" y="3581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1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482520" y="26416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8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99840" y="27306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3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723800" y="3119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214480" y="3408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20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6292800"/>
            <a:ext cx="7961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lvaro Obregó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áfica 9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-114480" y="712800"/>
          <a:ext cx="1258416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4480" y="712800"/>
                    <a:ext cx="1258416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982800" y="556740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. Obreg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74320" y="553896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19840" y="19368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29560" y="243216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76160" y="177012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80480" y="228924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0800" y="507528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38400" y="5075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15840" y="50767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178760" y="5076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1880" y="30718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22120" y="33894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09760" y="3954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02240" y="42274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81520" y="2610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05600" y="3157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203960" y="3811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812360" y="41544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4720" y="6292800"/>
            <a:ext cx="8024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Alvaro Obregó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21T20:50:32Z</dcterms:created>
  <dc:creator>Liliana</dc:creator>
  <dc:description/>
  <dc:language>en-US</dc:language>
  <cp:lastModifiedBy>Liliana</cp:lastModifiedBy>
  <cp:lastPrinted>1998-12-23T17:25:56Z</cp:lastPrinted>
  <dcterms:modified xsi:type="dcterms:W3CDTF">1999-02-26T20:09:23Z</dcterms:modified>
  <cp:revision>74</cp:revision>
  <dc:subject/>
  <dc:title>Gráfica 1 Prevalencia de Uso de Tabaco  Alguna Vez</dc:title>
</cp:coreProperties>
</file>