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53E4-BE04-4520-AB78-0DEDC6D6D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EF36-A283-4303-BCAA-6E69CEA3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C9E6-7E3A-4753-A352-FC8691C63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A17A-1070-41EF-8941-FE356B7DA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78D5-7211-4392-BFEC-6735CC1D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ECF5-9895-4000-989A-2CFC30A6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8F44-D904-4C74-8CCB-E2AE50CF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1E3A-2927-4FC3-9CE3-2ACB76C5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BDD6-C6FC-4A40-AECF-DB57D122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5983-6430-40CD-A788-9DAD89A6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C78A-FEFC-4805-A932-C64D2BEA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DCB6-B531-406C-8328-AC551708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0D97-01A1-4C1C-860C-B7A716626B0A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915840" y="5686560"/>
            <a:ext cx="34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Xochimi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95840" y="56865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24120" y="25527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2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228600" y="455760"/>
          <a:ext cx="1321920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455760"/>
                    <a:ext cx="1321920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81000" y="56386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Xochimi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74480" y="56386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9652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43216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79856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28924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3920" y="478944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80800" y="47894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73240" y="481968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235280" y="47912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7920" y="39988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8480" y="41990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92400" y="30402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71640" y="3417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39120" y="39974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36000" y="41418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34360" y="2843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69040" y="3103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176040" y="411120"/>
          <a:ext cx="12899880" cy="46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6040" y="411120"/>
                    <a:ext cx="1289988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155240" y="5533920"/>
            <a:ext cx="152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Xochimil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02760" y="550548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28924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2892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28924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20" y="471312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44320" y="471312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7040" y="471312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66560" y="471312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26000" y="471312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81600" y="471312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16216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16216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16072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1280" y="34066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4240" y="3606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404820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44120" y="38638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49480" y="396252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79520" y="413388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85400" y="3578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74480" y="39211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22240" y="402120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67240" y="323532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17440" y="3549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77720" y="3905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84320" y="34066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60520" y="36640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49600" y="3963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27400" y="34066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043120" y="372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90880" y="3963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498760"/>
          <a:ext cx="1223820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98760"/>
                    <a:ext cx="1223820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460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460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460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30976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3097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30832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63400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6358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82920" y="44974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21000" y="46404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87880" y="44402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5920" y="3554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9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43760" y="42688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37640" y="40449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4120" y="43812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14280" y="1228680"/>
          <a:ext cx="13390560" cy="463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14280" y="1228680"/>
                    <a:ext cx="13390560" cy="46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6056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8472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6572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78000" y="108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13320" y="10890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09800" y="10904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320" y="5410080"/>
            <a:ext cx="13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16360" y="536724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76560" y="496584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39360" y="48038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377120" y="142884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823520" y="47912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0000" y="41752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0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85120" y="21985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5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32800" y="53690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35840" y="539748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22120" y="54212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79080" y="536400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96960" y="598320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70520" y="59911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327800" y="59832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02080" y="45212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81440" y="34909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9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86440" y="31780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8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77840" y="44928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2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09680" y="34052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2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30240" y="32958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5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21880" y="493704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51400" y="4378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5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57480" y="18781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3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1120" y="493704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36520" y="40687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4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56360" y="21985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4720" y="637848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3344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8440" y="1630440"/>
          <a:ext cx="1217628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40" y="1630440"/>
                    <a:ext cx="1217628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109520" y="16113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47960" y="1611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72120" y="16113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28040" y="149220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79080" y="149220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89560" y="149400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42120" y="538308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38840" y="538488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18040" y="485316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68680" y="450540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576200" y="2054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7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91880" y="48229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17480" y="446400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26800" y="2112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5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6680" y="538308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09920" y="538308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72320" y="2546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75800" y="47530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91160" y="3608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85600" y="300528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36360" y="4781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54960" y="3719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5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76040" y="288936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00120"/>
          <a:ext cx="848196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00120"/>
                    <a:ext cx="848196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533600" y="5867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ochimi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6880" y="58672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275256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24120" y="32097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72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81760" y="2981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444680"/>
          <a:ext cx="8337600" cy="45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444680"/>
                    <a:ext cx="8337600" cy="45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800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800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95880" y="5800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23760" y="342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81360" y="2647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29040" y="154296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4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2097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2104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2133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36680" y="1442880"/>
          <a:ext cx="9113760" cy="438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442880"/>
                    <a:ext cx="9113760" cy="43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849600" y="556272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81880" y="556272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5000" y="556272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08160" y="2943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25600" y="2197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46640" y="2917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281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55960" y="2166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13360" y="2830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4720" y="635004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51484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7560" y="548316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6680" y="546732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68280" y="3063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9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43160" y="1911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30760" y="2749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6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89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52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41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495440"/>
          <a:ext cx="8656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95440"/>
                    <a:ext cx="8656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83160" y="560556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19320" y="560556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0120" y="560556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25520" y="2946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01680" y="2684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55840" y="3375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49560" y="3176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59160" y="3875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4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6880" y="3632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20760" y="763560"/>
          <a:ext cx="8823240" cy="46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760" y="763560"/>
                    <a:ext cx="8823240" cy="46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36680" y="520236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66080" y="5234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24440" y="523404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26920" y="5234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3440" y="2303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4320" y="2798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1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6440" y="2684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4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4280" y="3233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71040" y="3827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87080" y="2131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28440" y="2665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17160" y="3195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77600" y="2322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38040" y="2900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01560" y="3475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55080" y="5676840"/>
            <a:ext cx="152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Xochimil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16880" y="56768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26240" y="3348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9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-171360" y="569880"/>
          <a:ext cx="1316016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1360" y="569880"/>
                    <a:ext cx="1316016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240920" y="5676840"/>
            <a:ext cx="152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Xochimil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74120" y="56484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720" y="484020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59800" y="48578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50400" y="486900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10480" y="486900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81080" y="48592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38200" y="486900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77080" y="17366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86440" y="220356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35920" y="159372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39880" y="20844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3560" y="3639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5920" y="3925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54840" y="3022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0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00960" y="3076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9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28160" y="3319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4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45840" y="372276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09280" y="3433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52160" y="3666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39760" y="2698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85880" y="2787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781040" y="3176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28600" y="3465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314280" y="770040"/>
          <a:ext cx="1307628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14280" y="770040"/>
                    <a:ext cx="1307628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866880" y="56530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Xochimi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74320" y="56246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19840" y="207972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29560" y="25750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76160" y="19130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0480" y="24321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7880" y="51037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67040" y="5103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7400" y="51055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36000" y="5105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7760" y="2843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79560" y="35892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09600" y="3983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2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16200" y="4284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95840" y="2666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34040" y="3186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89640" y="3868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98040" y="4183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8-12-23T22:13:43Z</cp:lastPrinted>
  <dcterms:modified xsi:type="dcterms:W3CDTF">1999-02-26T19:37:10Z</dcterms:modified>
  <cp:revision>292</cp:revision>
  <dc:subject/>
  <dc:title>Gráfica 1 Prevalencia de Uso de Tabaco  Alguna Vez</dc:title>
</cp:coreProperties>
</file>