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44F0-FB25-4F10-B1B1-6FB01CD4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478C-1874-4727-AA1F-6CA4407E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FAB7-838F-46BC-93B5-55C2ACB1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61F5-FF1E-4B44-8A7A-1B028E5E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1F1-6AF3-4743-B578-78BEF383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ED8B-A0B2-4F29-9C0D-9B7527E4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05A-7E63-4AE3-9DA3-776377BC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16FC-19B6-4E8D-9DBC-A121D65D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7F35-D34F-4DDD-95E8-2335697D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581E-95FC-4BBF-856D-5F02B4B2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F5F8-B6DC-4507-8970-4F36328B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98DC-2B07-490A-82BA-E2D9CEDD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0B2F-B7BB-422E-8637-61483903A088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552680" y="58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80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4098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6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320" y="598320"/>
          <a:ext cx="1238256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" y="598320"/>
                    <a:ext cx="1238256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067040" y="57243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45880" y="56674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08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749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41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32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2520" y="48751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09240" y="49323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6200" y="49338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35120" y="49338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772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68640" y="4284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06520" y="2068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86120" y="2903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53080" y="4168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64280" y="4284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4200" y="2986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83560" y="3246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119160" y="439560"/>
          <a:ext cx="1272384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9160" y="439560"/>
                    <a:ext cx="1272384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783000" y="5419800"/>
            <a:ext cx="183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59840" y="53910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19120" y="211788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86040" y="21178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10400" y="211788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6640" y="47131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30000" y="47131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25480" y="468468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2080" y="47131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11880" y="47131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95920" y="47131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11360" y="199080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79440" y="199080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86160" y="198900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8160" y="2835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424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23200" y="387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560" y="32925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20320" y="3591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79160" y="390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56960" y="334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292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5360" y="40784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67240" y="32637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9000" y="3578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49280" y="3933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27080" y="34354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0328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63920" y="3963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70160" y="346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86240" y="3749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47960" y="3992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525680"/>
          <a:ext cx="122382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5680"/>
                    <a:ext cx="122382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0890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0890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0890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19382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19382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19368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7484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7499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5831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78240" y="466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59440" y="421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6760" y="2354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43760" y="34401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4330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4136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257480"/>
          <a:ext cx="1339056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257480"/>
                    <a:ext cx="133905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11744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4160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2296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52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705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6704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20" y="5381640"/>
            <a:ext cx="13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16360" y="536724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19120" y="49942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7800" y="4775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91440" y="14860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51960" y="4905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48440" y="4022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6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398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0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8480" y="5397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50320" y="539748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22120" y="5421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3928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9720" y="595944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56040" y="5959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27800" y="5958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464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81600" y="2948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3921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77840" y="4378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66720" y="2919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6280" y="4010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6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21880" y="49658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51400" y="4264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9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2049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1120" y="49942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726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9960" y="2598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4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180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0464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85680" y="1716120"/>
          <a:ext cx="117442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1716120"/>
                    <a:ext cx="117442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81080" y="16970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19520" y="16970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43680" y="16970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9600" y="15778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15778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61120" y="157968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85240" y="544032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53000" y="544212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89440" y="49579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39560" y="4591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2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76400" y="2168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6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7760" y="4937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74400" y="4464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3880" y="2284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7880" y="544032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24240" y="544032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01120" y="26319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424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62880" y="3379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9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85240" y="3548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79120" y="4867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080" y="3519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32760" y="3346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0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52400" y="1560600"/>
          <a:ext cx="8481960" cy="45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1560600"/>
                    <a:ext cx="848196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19640" y="586728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581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525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857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85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857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0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67040" y="219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4336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52840" y="20192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20192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4316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4316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5339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5339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1120" y="553392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79560" y="3171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40120" y="2568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6480" y="2575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39640" y="2778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5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00240" y="2597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2120" y="194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6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93720" y="1298520"/>
          <a:ext cx="88012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1298520"/>
                    <a:ext cx="88012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25920" y="554832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6208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82760" y="2174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16000" y="2570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70320" y="2603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49560" y="3090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02080" y="318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78440" y="3546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0712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33440" y="1020600"/>
          <a:ext cx="87105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1020600"/>
                    <a:ext cx="87105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93560" y="550692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1760" y="55389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5389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55360" y="55389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3600" y="1531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7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08800" y="1998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6600" y="2398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9960" y="286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56720" y="3541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87080" y="2360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5320" y="2894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45600" y="3424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06040" y="2579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66480" y="3129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732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9880" y="5872320"/>
            <a:ext cx="183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88080" y="58723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54680" y="2633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0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7240" y="657360"/>
          <a:ext cx="1254600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57360"/>
                    <a:ext cx="1254600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68640" y="5562720"/>
            <a:ext cx="183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02760" y="55339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88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7392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64880" y="48402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81680" y="48690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6660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5252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8644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07120" y="17082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11080" y="22273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600" y="3040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35720" y="3611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7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880" y="202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6640" y="25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42280" y="2290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4280" y="3094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9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80840" y="34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66480" y="3666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82520" y="2755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71400" y="2787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5360" y="320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57240" y="3494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1800" y="62355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4480" y="912960"/>
          <a:ext cx="124380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912960"/>
                    <a:ext cx="124380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038600" y="57103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31560" y="56815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0509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5462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8842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4033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9400" y="52466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09760" y="5246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73080" y="52484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35800" y="5248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7720" y="2128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4046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52680" y="3211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02040" y="4427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2809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160" y="3328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46880" y="4011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26480" y="4325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/>
  <dc:description/>
  <dc:language>en-US</dc:language>
  <cp:lastModifiedBy>Liliana</cp:lastModifiedBy>
  <cp:lastPrinted>1998-12-23T22:13:43Z</cp:lastPrinted>
  <dcterms:modified xsi:type="dcterms:W3CDTF">1999-02-26T18:19:14Z</dcterms:modified>
  <cp:revision>133</cp:revision>
  <dc:subject/>
  <dc:title>Gráfica 1 Prevalencia de Uso de Tabaco  Alguna Ve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>Villatoro, J., Medina-Mora, M.E., Cardiel, H., Alcántar, E., Fleiz, C., Parra, J., Navarro, C. Néquiz, G. (1999). Consumo de Drogas, Alcohol y Tabaco en Estudiantes del Distrito Federal: medición otoño 1997. Reporte General del DF. SEP, IMP, México.</vt:lpwstr>
  </property>
  <property fmtid="{D5CDD505-2E9C-101B-9397-08002B2CF9AE}" pid="13" name="OutputDir">
    <vt:lpwstr>C:\cnavarro\Enuesta1997\REPORTE\Delegaciones\BenitoJua\Benithtm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