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CF27-BF71-43B4-840F-305842C9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0B33-F31A-45BF-898F-BD892941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AAFC-403B-4ED3-A1D3-4B062403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6674-5052-4E29-8226-40BA6689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8BCC-9E3E-47DF-A4EF-A85DDD57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85BB-3FDB-45DB-B354-3DBDAE03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600-3237-49E2-B266-F6459F58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A53B-5242-47C3-9D74-19F21250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D1CA-B078-48B9-8182-657872BF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6C75-322C-4C3A-B4AA-870B9859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A3F5-F0FB-4B93-93A7-6CAEBCB7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3245-A7EB-4E85-A6A4-E5F7A956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5FBE-4E7B-4B14-88AA-5C1B537D58B2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865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686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495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36360" y="398520"/>
          <a:ext cx="126126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398520"/>
                    <a:ext cx="126126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209600" y="55530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03120" y="55530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080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749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41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320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5280" y="4732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2000" y="4732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01880" y="47340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21160" y="4734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928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9708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78080" y="3068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14560" y="3132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81880" y="3940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2152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1440" y="2786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69240" y="3075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182520" y="582480"/>
          <a:ext cx="1295856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2520" y="582480"/>
                    <a:ext cx="1295856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411560" y="5505480"/>
            <a:ext cx="125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88440" y="54770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2604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2604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26044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3880" y="48848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87240" y="48848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11160" y="48848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37760" y="48848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97560" y="48848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53160" y="48848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13372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13372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13192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128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800" y="3749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09080" y="3990960"/>
            <a:ext cx="60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1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2560" y="3349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91520" y="3733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50360" y="404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85400" y="3349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3136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21880" y="3963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67240" y="34066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624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06520" y="4076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432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6052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20800" y="41353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9860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71920" y="3892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90880" y="41353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556000"/>
          <a:ext cx="12238200" cy="31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56000"/>
                    <a:ext cx="1223820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2892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28924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1384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1384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1366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57676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5785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383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21000" y="435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02000" y="4211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78680" y="3954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3554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08840" y="4130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4136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285920"/>
          <a:ext cx="1339092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285920"/>
                    <a:ext cx="1339092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11744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4160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2296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352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705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6704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760" y="541008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73600" y="536724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62240" y="50227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67800" y="48610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62640" y="1542960"/>
            <a:ext cx="8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5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795080" y="4876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0000" y="4146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56680" y="2341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2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04160" y="54259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50320" y="539748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22120" y="5421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4212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4200" y="599760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70520" y="59976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56600" y="59976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73640" y="4521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3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53000" y="34909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14880" y="3349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9400" y="4492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95360" y="3405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2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6280" y="3438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65000" y="50227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22600" y="4578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86280" y="1792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7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9942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4297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4280" y="2141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8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400" y="637848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6188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28600" y="1687680"/>
          <a:ext cx="117442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87680"/>
                    <a:ext cx="117442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138320" y="16970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76760" y="16970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00920" y="169704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56840" y="157788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07880" y="157788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18000" y="157968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28160" y="541188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95920" y="541332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03560" y="49388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2480" y="4419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18960" y="2282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20680" y="4908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17320" y="4378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7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26800" y="2313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0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30800" y="541188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67160" y="541188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844040" y="26035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75600" y="4753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06160" y="366552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42120" y="320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22040" y="4838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12200" y="3633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75680" y="3174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4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644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58800"/>
          <a:ext cx="848196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58800"/>
                    <a:ext cx="848196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790640" y="5867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256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5400" y="295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3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09800" y="2895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525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472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686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686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6865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098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67200" y="1962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29040" y="1971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7804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1068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524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a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08000" y="2629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97160" y="1797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46640" y="2803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6532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196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a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a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921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85920" y="2197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01960" y="2949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280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920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20560" y="1208160"/>
          <a:ext cx="897444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1208160"/>
                    <a:ext cx="897444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754560" y="551988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90720" y="551988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81520" y="55198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39840" y="2489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1880" y="2427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27240" y="3089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49760" y="2976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45040" y="3532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7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35520" y="3432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040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45960" y="762120"/>
          <a:ext cx="8798040" cy="46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762120"/>
                    <a:ext cx="879804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722160" y="525924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920" y="52912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0120" y="529128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2600" y="52912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9120" y="2332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51560" y="2998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7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27800" y="2227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4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32720" y="2948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040" y="3456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8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72760" y="2131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8440" y="2693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720" y="3252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1720" y="2379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38040" y="2957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72760" y="3503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5520" y="5734080"/>
            <a:ext cx="125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59440" y="57340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26240" y="3490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1360" y="684360"/>
          <a:ext cx="122634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84360"/>
                    <a:ext cx="122634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554120" y="5791320"/>
            <a:ext cx="125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17080" y="57625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8080" y="499752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73920" y="49928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07640" y="499752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3240" y="499752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38160" y="49928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4080" y="499752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7938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6509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1700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600" y="3782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21400" y="3868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5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83280" y="2965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5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6640" y="2819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85040" y="3633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9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31160" y="3780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80840" y="3576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66480" y="3781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96840" y="2841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14160" y="2901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80880" y="3290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10000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63216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12800"/>
          <a:ext cx="124920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12800"/>
                    <a:ext cx="124920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438200" y="56246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46040" y="56246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05520" y="17654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15240" y="22604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61840" y="15987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6160" y="21178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0760" y="50608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24240" y="5060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44440" y="50608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92880" y="5060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8920" y="2786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3840" y="3103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23880" y="3897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44800" y="4056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2610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76960" y="315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18440" y="381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26480" y="4125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3T19:22:50Z</dcterms:created>
  <dc:creator>JORGE VILLATORO</dc:creator>
  <dc:description/>
  <dc:language>en-US</dc:language>
  <cp:lastModifiedBy>Liliana</cp:lastModifiedBy>
  <cp:lastPrinted>1999-02-10T17:33:10Z</cp:lastPrinted>
  <dcterms:modified xsi:type="dcterms:W3CDTF">1999-02-26T20:23:43Z</dcterms:modified>
  <cp:revision>24</cp:revision>
  <dc:subject/>
  <dc:title>Sin título de diapositiva</dc:title>
</cp:coreProperties>
</file>