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E07-3F7B-45FB-BA81-5A24154E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B02-543A-434D-96C5-65166C49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EDC-5431-40EE-9CFF-DF2C1668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F39-0027-480B-AFFD-FA427BAB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E49-3903-4F39-9529-7D457128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EA0-7B8B-441B-B6E8-916872BE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09C-685B-48F2-A03B-4D90A2E1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674-F278-47BE-AB03-82AF042F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578-B826-483E-B3CE-A6303829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7CE-314E-4217-A50D-0594577B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6A2-6DDF-4253-95B8-9CDE3476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F29-BD89-4199-808A-31294900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8F79-2680-4AF4-B25D-5C9B974081C7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80068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640" y="629280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515880"/>
          <a:ext cx="1292868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515880"/>
                    <a:ext cx="129286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2080" y="55818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880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5699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0606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6180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23560" y="46180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6195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63720" y="4619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040" y="3770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39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92200" y="2840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25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720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8336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040" y="629280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62080" y="582480"/>
          <a:ext cx="1316196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2080" y="582480"/>
                    <a:ext cx="1316196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011600" y="556272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46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463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96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432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3980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8324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1040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192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192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178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1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976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08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920" y="3549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34640" y="3790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219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00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40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276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8896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28800" y="3892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1932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6440" y="623556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4168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168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374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3749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956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95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938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624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642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1632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92800" y="335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16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040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5568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4300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4300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317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59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728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492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488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8136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26716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2240" y="52815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44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24400" y="479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060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112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75560" y="5311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7896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79000" y="5278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071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0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897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4160" y="4521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5300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00760" y="3092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4472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016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378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600" y="1763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954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5004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200160" y="1630440"/>
          <a:ext cx="1266840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1630440"/>
                    <a:ext cx="1266840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3884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03720" y="4881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53840" y="4419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3440" y="487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32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8404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652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408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9136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4232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5032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6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040" y="6321600"/>
            <a:ext cx="803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49000" y="586728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. C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2809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6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5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9335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2287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428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054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635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960" y="6350040"/>
            <a:ext cx="815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809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809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6244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624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624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82760" y="2717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98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3080" y="3174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3640" y="35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280" y="6292800"/>
            <a:ext cx="796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920" y="649440"/>
          <a:ext cx="931536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649440"/>
                    <a:ext cx="93153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6496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0400" y="519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1973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98120" y="519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00" y="21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7280" y="271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3880" y="23702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120" y="2833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0880" y="325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2984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9640" y="2522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59920" y="308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36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14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567684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9560" y="32338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805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42920" y="541440"/>
          <a:ext cx="13217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541440"/>
                    <a:ext cx="13217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182960" y="567684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6736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0952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8112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49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92800" y="3668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12080" y="27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0960" y="299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8504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2376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8096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5440" y="2698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4276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9552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584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784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712800"/>
          <a:ext cx="12930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712800"/>
                    <a:ext cx="12930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82080" y="55674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6040" y="55389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0468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504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5048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78920" y="504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800" y="26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1320" y="3583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30320" y="4027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2444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76960" y="3129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0412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83720" y="412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0400" y="629280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19:15Z</dcterms:modified>
  <cp:revision>191</cp:revision>
  <dc:subject/>
  <dc:title>Gráfica 1 Prevalencia de Uso de Tabaco  Alguna Vez</dc:title>
</cp:coreProperties>
</file>