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E451-5771-4EB9-A37C-F82FD02FE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3B2D-B32E-4B0A-86F4-4CFEAD8E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D270-F7D4-49CA-84CA-A737FC250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F03A-9893-4340-88BF-2E9B38D37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6671-830B-4609-ACE6-166DEA53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1D21-BBCA-46CC-BD85-27854CFC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5E91-99A2-4E42-8F79-F58309AE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30C0-E1BC-4DE6-8367-BE366BC1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12F7-4B98-4869-8AF2-C2CA6578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FCB0-4A7C-468D-B7EA-29D17485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CA94-F01D-4A60-94B7-C05B6965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9923-A42F-440A-8F71-F8D92329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30EB-5B18-46B1-83DC-1A1096437910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552680" y="5800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tzcapotza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96000" y="5800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238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70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48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88920" y="426960"/>
          <a:ext cx="1310148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426960"/>
                    <a:ext cx="1310148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81000" y="561024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tzcapotza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74480" y="56102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9368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403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701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604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5280" y="47610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80800" y="47610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44800" y="476244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49760" y="47624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04960" y="39704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25880" y="4113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92200" y="258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43000" y="3017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53240" y="3968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50120" y="4113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48480" y="2814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126280" y="3075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6440" y="620712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209520" y="439560"/>
          <a:ext cx="1293012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9520" y="439560"/>
                    <a:ext cx="1293012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955080" y="5505480"/>
            <a:ext cx="185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tzcapotzal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517080" y="54770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11788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1178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11788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6640" y="474192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30000" y="474192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82720" y="474192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80880" y="474192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11880" y="474192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38680" y="474192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199080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199080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198900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8880" y="30639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47000" y="354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404820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30160" y="30639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63080" y="3533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93480" y="404820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56960" y="3606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74480" y="39211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3800" y="404964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67240" y="323532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17440" y="3578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49280" y="39337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27080" y="3406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0328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92360" y="3992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98600" y="34639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4312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33640" y="3992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0400" y="617868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1382760"/>
          <a:ext cx="1223820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82760"/>
                    <a:ext cx="1223820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28924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2892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28924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1384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1384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1366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63400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6358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82920" y="4183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78240" y="401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45120" y="45259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6760" y="3097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0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43760" y="3468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151760" y="401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1960" y="620712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12920" y="438120"/>
            <a:ext cx="857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43080" y="1257480"/>
          <a:ext cx="1339092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43080" y="1257480"/>
                    <a:ext cx="1339092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8900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1316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9452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0644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4176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3860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9200" y="541008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73600" y="539604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18600" y="49942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39360" y="48038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34200" y="154296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3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795080" y="47912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891560" y="39751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8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443080" y="25988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61240" y="539748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50320" y="539748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493320" y="5421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07880" y="536400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54200" y="595944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41720" y="59594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27800" y="59580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44840" y="4292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9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95920" y="31194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00560" y="3949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9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49400" y="4292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9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52600" y="30337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3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87480" y="40384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6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50160" y="4937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94160" y="4321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8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57480" y="20494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9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7840" y="4937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8080" y="39546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9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27920" y="2455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64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7620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71360" y="1773360"/>
          <a:ext cx="1174428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773360"/>
                    <a:ext cx="1174428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052640" y="17254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91080" y="17254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14880" y="172548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71160" y="160668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22200" y="160668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32320" y="160812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0920" y="549756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38680" y="54990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60640" y="5024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25240" y="4619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2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19320" y="222552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63440" y="4965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60080" y="4578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98360" y="2341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3560" y="549756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09920" y="549756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86800" y="2689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89920" y="4809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77200" y="3665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85240" y="3405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0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64800" y="4896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83760" y="3633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3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90000" y="3317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0488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722160" y="1587600"/>
          <a:ext cx="8487000" cy="45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2160" y="1587600"/>
                    <a:ext cx="8487000" cy="45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476360" y="586728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zcapotza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58240" y="5867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52640" y="24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6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09800" y="2924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5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838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3067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92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857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85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857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09800" y="27147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67040" y="2162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29040" y="20858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67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3888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93560" y="1362240"/>
          <a:ext cx="865044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362240"/>
                    <a:ext cx="865044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3920" y="550548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6200" y="550548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39320" y="550548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79360" y="1914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68560" y="2225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4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46480" y="2489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5120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847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180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57208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7560" y="554040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6680" y="552456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39640" y="2664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28840" y="2054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59360" y="1835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919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180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22360" y="1293840"/>
          <a:ext cx="8972640" cy="42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360" y="1293840"/>
                    <a:ext cx="897264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840240" y="563400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76400" y="563400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67200" y="56340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39840" y="2317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30320" y="2541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70160" y="2860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6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6640" y="3062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73480" y="3332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5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63960" y="3546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1800" y="62355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735120"/>
          <a:ext cx="9144000" cy="46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35120"/>
                    <a:ext cx="914400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379440" y="537372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94520" y="53769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52880" y="537696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55360" y="53769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00" y="1731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64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65880" y="2255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3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3560" y="2894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85240" y="2112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47040" y="2862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0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42240" y="3255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72760" y="2103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14120" y="2637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74400" y="316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91720" y="2293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52160" y="2900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87240" y="3475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9240" y="5776920"/>
            <a:ext cx="185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tzcapotzal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88080" y="57769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9320" y="484200"/>
          <a:ext cx="1261260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0" y="484200"/>
                    <a:ext cx="1261260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412280" y="5762520"/>
            <a:ext cx="185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tzcapotzal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8280" y="573408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2400" y="469728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2720" y="47149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64880" y="475452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24800" y="47829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95400" y="47163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81320" y="472608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34160" y="16794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15080" y="21956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93000" y="155268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68160" y="20685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3360" y="3297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3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07280" y="3554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55000" y="2308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43880" y="2619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99520" y="3062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8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31160" y="343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66520" y="3376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4920" y="3581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10960" y="2612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57080" y="2701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52600" y="3090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42920" y="3379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3320" y="62355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17640" y="655560"/>
          <a:ext cx="1255428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640" y="655560"/>
                    <a:ext cx="1255428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866880" y="562464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tzcapotza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74320" y="55958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05520" y="17366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15240" y="22320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61840" y="15699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6160" y="20890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6480" y="49896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66840" y="4989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7400" y="49910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78760" y="49910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3240" y="2271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79360" y="2960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09760" y="3668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16360" y="4084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0320" y="2552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62480" y="3100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46880" y="3754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98040" y="4068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9200" y="617868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9-02-10T17:42:04Z</cp:lastPrinted>
  <dcterms:modified xsi:type="dcterms:W3CDTF">1999-02-26T20:41:28Z</dcterms:modified>
  <cp:revision>106</cp:revision>
  <dc:subject/>
  <dc:title>Gráfica 1 Prevalencia de Uso de Tabaco  Alguna Vez</dc:title>
</cp:coreProperties>
</file>