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81CC-3FF2-4F53-844B-264F5B47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D596-D1E4-440E-995E-70A94EEE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045-66EC-4A68-889D-6AD9B362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2BD-D2F8-4495-B2CE-C0F19CFC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43F-1056-4BC6-945B-A5B2BD7F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FB5F-5A22-462D-853B-DF687780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85E-0E4D-4AD2-8BBD-33705CBA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EBB-22A4-4D69-B54C-A19E284F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037C-1C3A-4ED5-B7BF-F15584A8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3FE-F5F0-4647-8F70-5CCF5B19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07E-8130-4B0F-A46E-42FFE31B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8C2A-25CB-4EED-A5CF-D12DB2AA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2051-3E28-4F3F-9EE9-5B4D5B87B922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087560" y="5800680"/>
            <a:ext cx="34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10000" y="23241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341280"/>
          <a:ext cx="12584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341280"/>
                    <a:ext cx="12584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25920" y="561024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4572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6753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66320" y="46753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6200" y="4676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06680" y="4676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720" y="3855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5160" y="2039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2903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38960" y="3911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3584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4200" y="2757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1200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04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57240" y="525600"/>
          <a:ext cx="1257948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25600"/>
                    <a:ext cx="1257948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41280" y="5477040"/>
            <a:ext cx="17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45520" y="5448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403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403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403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820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4448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3996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600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2766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2766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2748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3000" y="34923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8992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80800" y="41623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8240" y="3349800"/>
            <a:ext cx="6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9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7560" y="36482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520" y="4105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1360" y="4006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51040" y="41353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8440" y="33210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900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7772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7484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3512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4172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5744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952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623556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41520"/>
          <a:ext cx="1238256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41520"/>
                    <a:ext cx="1238256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6035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6035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60352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4526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4526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4512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54320" y="554832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80480" y="5549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9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6116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59440" y="4383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782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4960" y="3382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273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0024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0024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2114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2114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2114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1174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1174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1192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8164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0204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689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51960" y="4819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20880" y="4146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14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5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3280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1520" y="53690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50400" y="5392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2220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59040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4480" y="59119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84880" y="5904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10240" y="3147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29360" y="3549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20600" y="4492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81040" y="3147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3495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23480" y="4206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9040" y="2021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956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897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8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4280" y="23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488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618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42920" y="1773360"/>
          <a:ext cx="1209024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773360"/>
                    <a:ext cx="1209024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38320" y="16686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76760" y="16686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00920" y="16686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56840" y="154944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07880" y="154944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18000" y="15508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8504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672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8040" y="50245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96960" y="4562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33440" y="2282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92400" y="50227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74720" y="44640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2480" y="2370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1648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2404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58000" y="268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838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6288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42120" y="35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22040" y="4867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4064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7240" y="3317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764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386000"/>
          <a:ext cx="8481960" cy="45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386000"/>
                    <a:ext cx="848196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06960" y="58104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5844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66960" y="2295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412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7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581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2960" y="2867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24452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24452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95480" y="302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1619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6480" y="2657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08000" y="2400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68720" y="2111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2517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64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840" y="54579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259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100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692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14720" y="2111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30760" y="2606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09640" y="1182600"/>
          <a:ext cx="8791560" cy="44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1182600"/>
                    <a:ext cx="8791560" cy="44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97480" y="55198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3364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9580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39640" y="22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30480" y="2484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98760" y="2774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6404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87760" y="3475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2136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90680" y="907920"/>
          <a:ext cx="865332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680" y="907920"/>
                    <a:ext cx="865332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79600" y="523080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900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4800" y="1789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66040" y="2255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42640" y="21700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18400" y="2747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6720" y="3427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2760" y="2217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4120" y="2751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4400" y="325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840" y="2436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66480" y="3014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000" y="356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5440" y="5748480"/>
            <a:ext cx="17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73760" y="57484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12280" y="29764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7240" y="398520"/>
          <a:ext cx="1235556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398520"/>
                    <a:ext cx="1235556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69720" y="5734080"/>
            <a:ext cx="17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5984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9640" y="47260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743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7884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9600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52480" y="4745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09600" y="4754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937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50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69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125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07280" y="352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5000" y="1994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58200" y="23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42280" y="2719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480" y="3322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9516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80800" y="3524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39600" y="258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85720" y="2673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24000" y="3062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43120" y="335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33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28440" y="741240"/>
          <a:ext cx="1252692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440" y="741240"/>
                    <a:ext cx="1252692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897480" y="57103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7452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8223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6556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804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4428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0720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6360" y="2071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9360" y="316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5252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8792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032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9128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2400" y="3840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080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1T19:16:57Z</cp:lastPrinted>
  <dcterms:modified xsi:type="dcterms:W3CDTF">1999-02-26T20:30:35Z</dcterms:modified>
  <cp:revision>135</cp:revision>
  <dc:subject/>
  <dc:title>Gráfica 1 Prevalencia de Uso de Tabaco  Alguna Vez</dc:title>
</cp:coreProperties>
</file>