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71F-2B58-45F2-A88B-94449392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ED8-6635-48DD-AC74-2A33AED4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0FE-CA7A-4DFE-B3A6-4F25081B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E8D-6F96-4CFD-B620-089AE0A2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EFE-B3F1-4E3C-A351-DB875B96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E51-63B4-49F1-BA05-F1132754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57A-6C0E-4B95-B445-5D574FCF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4B0-D9EA-4AA5-9D71-D0B8FF16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91F-06A8-4E4A-A4DC-575DC766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705-6E7E-4364-966D-6CD910C7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388-65F3-488A-A257-5EB929A7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9A2-45FE-48BC-B53C-122AF68B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8B4F-41F7-4679-8E35-3153D1710CD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23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804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3074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3074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96200" y="5667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0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9252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29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34960" y="266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2846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280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978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48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13172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1317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4360" y="55339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0156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7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76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7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5200" y="40194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42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8860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0312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9220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15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0712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7032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7032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55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726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23160" y="4187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80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47660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47660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0556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80760" y="4734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60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13920" y="2427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25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7000" y="3552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600" y="3868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30440"/>
          <a:ext cx="12206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30440"/>
                    <a:ext cx="12206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38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794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40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148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644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0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391400" y="5810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9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6704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2452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371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04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171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196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22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32160" y="28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810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3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625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44880" y="2178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9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68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677880"/>
          <a:ext cx="897552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677880"/>
                    <a:ext cx="897552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880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4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8280" y="2103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98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13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02840" y="322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4920" y="2928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5880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4360" y="57625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256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900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8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85680" y="484200"/>
          <a:ext cx="12931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484200"/>
                    <a:ext cx="12931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480" y="564840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16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65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60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22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41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360" y="2536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7252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880" y="3176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2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800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26920"/>
          <a:ext cx="124682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26920"/>
                    <a:ext cx="124682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81920" y="5681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1728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89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346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0996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016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6428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52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7344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10160" y="26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360" y="3243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75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8356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96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7:48Z</dcterms:modified>
  <cp:revision>152</cp:revision>
  <dc:subject/>
  <dc:title>Gráfica 1 Prevalencia de Uso de Tabaco  Alguna Vez</dc:title>
</cp:coreProperties>
</file>