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E31-C237-4265-B56E-6D7FC343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4A0-8776-48AA-8E39-E99DD60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DA8-6E35-4AEC-B2E4-4C2DED0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013-F704-40E1-8D1D-D320D643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21D-6AD5-4216-BB67-DC4B9060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0DB-970A-404D-9963-92C14CF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293-FD26-4966-9C11-E55CAA68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170-5220-448C-A072-BA1915AD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B9F-555E-4100-B16E-89F1E2E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4E8-A296-44ED-9AF5-E0CAC3E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FE1-2859-43AD-9DFB-A651605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4AF-5B3A-4B4C-B0D3-B994112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9703-6858-464F-ABD1-523862565CA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5308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381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26960"/>
          <a:ext cx="12266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960"/>
                    <a:ext cx="12266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3160" y="5695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31400" y="5695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328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100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14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786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632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496800"/>
          <a:ext cx="12527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496800"/>
                    <a:ext cx="12527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3080" y="5448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880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960" y="30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298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60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978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2210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5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464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464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44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725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387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0024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0024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8770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6712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382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666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344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64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906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40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70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906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08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705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6200" y="5022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4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924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6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6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21440" y="5867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9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76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74920"/>
          <a:ext cx="83394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74920"/>
                    <a:ext cx="8339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11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18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07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2120" y="177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0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6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3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8000" y="1298520"/>
          <a:ext cx="9469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8520"/>
                    <a:ext cx="946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4910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491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491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10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464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740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388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088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7760" y="735120"/>
          <a:ext cx="87962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735120"/>
                    <a:ext cx="87962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05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332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5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" y="1874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368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70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39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1720" y="5691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91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2976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512640"/>
          <a:ext cx="126684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126684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4800" y="564840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824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528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225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98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5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848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7760" y="23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03080" y="3179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408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240" y="627120"/>
          <a:ext cx="12295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27120"/>
                    <a:ext cx="12295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6080" y="57103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7448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372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168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32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000" y="3998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21:02:54Z</cp:lastPrinted>
  <dcterms:modified xsi:type="dcterms:W3CDTF">1999-02-26T20:34:30Z</dcterms:modified>
  <cp:revision>126</cp:revision>
  <dc:subject/>
  <dc:title>Gráfica 1 Prevalencia de Uso de Tabaco  Alguna Vez</dc:title>
</cp:coreProperties>
</file>