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6D14-8D59-44EB-9F48-8D15EA049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E2B3-F2F3-4038-9CC5-894AC2E9F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A6AC-5920-4F02-84E9-1625D8BE3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6775-1556-47F7-9184-1B7330A2D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5FC6-63ED-4014-8B6A-B0BB5F053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2FBB-A03A-4528-8E22-D8690ADC2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5746-7099-43D1-A878-7D9165527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168B-B41F-4BB6-B045-5A6907D80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75B5-2525-4DD9-A3FE-4139C2987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0235-3ADF-4BAA-BB91-B640F55A7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1EAC-01A3-42F6-A3F3-DB59331AE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C4D4-2DD2-4EBF-A2AD-39827DEB7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6F7F3-BF3C-4CF8-85E0-4DD2A2CC78C4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33520" y="1409760"/>
          <a:ext cx="8153280" cy="43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9760"/>
                    <a:ext cx="8153280" cy="43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915840" y="5686560"/>
            <a:ext cx="34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ilpa Al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695840" y="568656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95680" y="24955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4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877000" y="2441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5200" y="361800"/>
            <a:ext cx="480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de Uso de Tabac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Uso Alguna V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7628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ilpa Alt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85480" y="58068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0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-257040" y="341280"/>
          <a:ext cx="1319040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57040" y="341280"/>
                    <a:ext cx="1319040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924120" y="5581800"/>
            <a:ext cx="159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ilpa Al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774480" y="558180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19840" y="1851120"/>
            <a:ext cx="201600" cy="17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29560" y="231768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76160" y="168444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52040" y="217476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13920" y="467532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995120" y="467532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587560" y="467676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178040" y="467676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19120" y="38559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40040" y="40845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163600" y="2782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0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743200" y="33606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67560" y="38829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278760" y="40273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434360" y="2728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012160" y="29894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7628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ilpa Alt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85480" y="263160"/>
            <a:ext cx="8574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11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-204840" y="468360"/>
          <a:ext cx="13074840" cy="467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04840" y="468360"/>
                    <a:ext cx="13074840" cy="46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1239840" y="5477040"/>
            <a:ext cx="1477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ilpa Al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602760" y="544824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90680" y="226044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657600" y="226044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81600" y="226044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-26280" y="477036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473120" y="477036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68240" y="477036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052240" y="477036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54440" y="477036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638840" y="477036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82920" y="2133720"/>
            <a:ext cx="163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50640" y="2133720"/>
            <a:ext cx="1569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57720" y="2131920"/>
            <a:ext cx="156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02480" y="37209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75800" y="39211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095120" y="404820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672560" y="38354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991880" y="404820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50720" y="410544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885400" y="35211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02920" y="38070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579120" y="39639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95680" y="329256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646240" y="36068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963760" y="39625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541560" y="34354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917760" y="36925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235280" y="39924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755840" y="34639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128800" y="37782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448120" y="39924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76280" y="623556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ilpa Alt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18960" y="1119240"/>
            <a:ext cx="857412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2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Edad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-371520" y="2298600"/>
          <a:ext cx="13017600" cy="314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71520" y="2298600"/>
                    <a:ext cx="13017600" cy="31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1424160" y="2575080"/>
            <a:ext cx="201600" cy="17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691080" y="257508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815080" y="2575080"/>
            <a:ext cx="201600" cy="172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15680" y="242424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83040" y="242424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89400" y="242244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125720" y="5548320"/>
            <a:ext cx="22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5 años o me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366160" y="554976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6 años o m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297080" y="43257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106720" y="43545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030840" y="41544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364360" y="39830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172200" y="41832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151760" y="39877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47840" y="6292800"/>
            <a:ext cx="787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ilpa Alt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55680" y="438120"/>
            <a:ext cx="857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Gráfica 13</a:t>
            </a:r>
            <a:br>
              <a:rPr sz="2400"/>
            </a:b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olerancia Social al Uso de Sustancia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-343080" y="1228680"/>
          <a:ext cx="13390920" cy="463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43080" y="1228680"/>
                    <a:ext cx="13390920" cy="463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1031760" y="118260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5920" y="118260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137280" y="118260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249200" y="1089000"/>
            <a:ext cx="14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b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584880" y="1089000"/>
            <a:ext cx="177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Ni  bien ni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381360" y="1090440"/>
            <a:ext cx="140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-6480" y="5353200"/>
            <a:ext cx="13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030680" y="5338800"/>
            <a:ext cx="163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33440" y="493704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939360" y="477504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291440" y="1428840"/>
            <a:ext cx="84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95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823520" y="487692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891560" y="39751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5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327880" y="22557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72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289680" y="534024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364640" y="536904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550560" y="536400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607880" y="533556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68520" y="5954760"/>
            <a:ext cx="9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Taba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013280" y="596268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385040" y="598320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ro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459680" y="457848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9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624560" y="33764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2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172840" y="31780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163880" y="460692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8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509840" y="30909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50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887480" y="34383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0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378600" y="490860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494160" y="44355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2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044240" y="17352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8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9040" y="487980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08080" y="40971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2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69960" y="21128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76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47840" y="6407280"/>
            <a:ext cx="787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ilpa Alt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404640" y="409680"/>
            <a:ext cx="857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14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ercepción de Riesgo Asociada al Uso de Sustancia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-85680" y="1630440"/>
          <a:ext cx="12552480" cy="420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5680" y="1630440"/>
                    <a:ext cx="12552480" cy="42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1081080" y="161136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719520" y="161136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43680" y="161136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299600" y="1492200"/>
            <a:ext cx="198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No 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950640" y="1492200"/>
            <a:ext cx="1631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261120" y="1494000"/>
            <a:ext cx="222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muy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628160" y="5526000"/>
            <a:ext cx="172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881760" y="5527800"/>
            <a:ext cx="142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eroí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932160" y="488160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082640" y="43624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5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747560" y="2139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3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749120" y="48513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103000" y="43783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5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712480" y="21416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3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16680" y="5526000"/>
            <a:ext cx="165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Fumar 5 ó 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igarrill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481480" y="5526000"/>
            <a:ext cx="189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so Frecu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Alcoh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701120" y="25462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18560" y="47815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206000" y="369396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699200" y="29480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9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736360" y="48099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054960" y="35481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0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690000" y="30607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6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76280" y="63216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ilpa Alt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2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62040" y="1500120"/>
          <a:ext cx="8481960" cy="45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040" y="1500120"/>
                    <a:ext cx="8481960" cy="45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590840" y="5810400"/>
            <a:ext cx="159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lpa Al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86880" y="581040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66960" y="2724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752560" y="30099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1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14880" y="2724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52960" y="29811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0400" y="635004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ilpa Alt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3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Nivel Esco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04640" y="1330200"/>
          <a:ext cx="8339400" cy="458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4640" y="1330200"/>
                    <a:ext cx="8339400" cy="45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66720" y="568656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und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19360" y="56865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chille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81560" y="568656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é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09800" y="31719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4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09960" y="224784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57840" y="20001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1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57440" y="30956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1280" y="1990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67320" y="1990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6292800"/>
            <a:ext cx="787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ilpa Alt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4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Tiempo Dedicado al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36680" y="1357200"/>
          <a:ext cx="9113760" cy="438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6680" y="1357200"/>
                    <a:ext cx="9113760" cy="43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849600" y="5477040"/>
            <a:ext cx="15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No estudi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981880" y="5477040"/>
            <a:ext cx="138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Estudió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½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25000" y="5477040"/>
            <a:ext cx="215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Estudió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50920" y="18572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73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25600" y="18543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7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189400" y="28321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85960" y="2195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55960" y="21099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7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13360" y="2744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19200" y="63216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ilpa Alt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5 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Tabaco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 Por Tiempo Dedicado al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838080" y="1638360"/>
          <a:ext cx="79250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38360"/>
                    <a:ext cx="79250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1068480" y="551484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No trabaj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87560" y="5483160"/>
            <a:ext cx="155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rabajó 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86680" y="5467320"/>
            <a:ext cx="222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rabajó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82760" y="29210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29040" y="25401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1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873680" y="17780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81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7560" y="2890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47960" y="2224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78480" y="2313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1960" y="63216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ilpa Alt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6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38080" y="1324080"/>
          <a:ext cx="88585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324080"/>
                    <a:ext cx="88585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983160" y="5548320"/>
            <a:ext cx="16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19320" y="554832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10120" y="554832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53960" y="28036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7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01680" y="25131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84640" y="33177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006800" y="30337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16400" y="3817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2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06880" y="35179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904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ilpa Alt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7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06280" y="706320"/>
          <a:ext cx="8999640" cy="467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280" y="706320"/>
                    <a:ext cx="8999640" cy="467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293760" y="5202360"/>
            <a:ext cx="127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66080" y="520524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67200" y="520524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69680" y="520524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70520" y="23036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2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80200" y="28274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0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70760" y="26845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3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089800" y="33195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0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356560" y="38559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8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058280" y="20750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28440" y="26082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5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59920" y="31669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06040" y="22939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2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09240" y="28717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9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01560" y="34466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7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11080" y="5705640"/>
            <a:ext cx="1477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ilpa Al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16880" y="570564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12120" y="34624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7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18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ilpa Alt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8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-142920" y="512640"/>
          <a:ext cx="13103280" cy="450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42920" y="512640"/>
                    <a:ext cx="13103280" cy="45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1353960" y="5619600"/>
            <a:ext cx="1477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ilpa Al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88440" y="561960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280" y="478296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374120" y="480060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664720" y="484020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038920" y="486900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52280" y="480204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767000" y="481176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48640" y="165096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214632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107120" y="150804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111080" y="202716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42000" y="34686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9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35920" y="37260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4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97600" y="30510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9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043720" y="29908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0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28160" y="34052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1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345840" y="39513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7720" y="34052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1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823720" y="36100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568200" y="26701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8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85880" y="27590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6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809480" y="3147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7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28600" y="34369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0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520" y="6292800"/>
            <a:ext cx="787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ilpa Alt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9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-28440" y="770040"/>
          <a:ext cx="1212372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8440" y="770040"/>
                    <a:ext cx="1212372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1038240" y="5624640"/>
            <a:ext cx="159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ilpa Al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231600" y="559584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05520" y="205092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15240" y="254628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161840" y="188424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6160" y="240336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42360" y="510372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024280" y="51037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01560" y="510552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750000" y="51055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19120" y="30718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50920" y="37893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7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66840" y="40114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2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5000" y="43704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52920" y="2666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962680" y="3186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0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003800" y="38685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583760" y="41832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7840" y="6264360"/>
            <a:ext cx="787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ilpa Alt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21T20:50:32Z</dcterms:created>
  <dc:creator>Liliana</dc:creator>
  <dc:description/>
  <dc:language>en-US</dc:language>
  <cp:lastModifiedBy>Liliana</cp:lastModifiedBy>
  <cp:lastPrinted>1999-02-15T16:59:06Z</cp:lastPrinted>
  <dcterms:modified xsi:type="dcterms:W3CDTF">1999-02-26T20:11:52Z</dcterms:modified>
  <cp:revision>221</cp:revision>
  <dc:subject/>
  <dc:title>Gráfica 1 Prevalencia de Uso de Tabaco  Alguna Vez</dc:title>
</cp:coreProperties>
</file>