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570-06A8-49A3-AA7F-FC2B6332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DEC-DD52-4633-9D20-4F66C47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347-7FDF-479E-8E3D-9DBA6830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693-8CFB-4ACE-9ED0-B16EB47E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1D3-D2AF-414C-BE5F-99B3044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A94-039C-41AE-8647-73C141EB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3F5-3826-487D-8816-CA7590A8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84B-3F02-4BC6-831B-995ACD0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9E4-CF44-4695-BBF5-D0EDE3F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114-C3CE-41DD-BC96-EE0FAD8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947-85B3-4F9E-9E8E-F52F7C8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23D-F925-40B7-ABAA-E037A51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3C4-99C8-49AA-8992-4C52AEDD716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229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69720"/>
          <a:ext cx="130176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69720"/>
                    <a:ext cx="130176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5160" y="558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884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468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76200" y="382680"/>
          <a:ext cx="134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6200" y="382680"/>
                    <a:ext cx="134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6360" y="54198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317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3176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588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906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906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8916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560" y="29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8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460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9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840" y="381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2280" y="39909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568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39924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2920" y="31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00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70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2720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56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55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89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7944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944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954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95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09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28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50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284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2760" y="54529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70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144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904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836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12080" y="4032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19960" y="2284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6080" y="5454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948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4200" y="547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1160" y="5478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60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120" y="6105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9880" y="60976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692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076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1480" y="4406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46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363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70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7520" y="196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2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360" y="3811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80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96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1573200"/>
          <a:ext cx="1223640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3200"/>
                    <a:ext cx="122364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9540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800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392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496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508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243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194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6720" y="47941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26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5440" y="248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58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080" y="5867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610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7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94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9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771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3528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756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1068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8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2454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4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200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324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10908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10908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2200" y="51451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76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19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1969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2490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11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1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080" y="567684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4880" y="2890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28600" y="4269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269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59116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562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316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8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6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2422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2690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295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04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644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828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740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85960"/>
          <a:ext cx="11776320" cy="44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85960"/>
                    <a:ext cx="117763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5360" y="5710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71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479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9750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13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32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" y="5132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3120" y="5133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5880" y="5133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25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644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052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4320" y="27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05280" y="327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948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1-25T17:41:44Z</cp:lastPrinted>
  <dcterms:modified xsi:type="dcterms:W3CDTF">1999-02-26T19:40:18Z</dcterms:modified>
  <cp:revision>255</cp:revision>
  <dc:subject/>
  <dc:title>Gráfica 1 Prevalencia de Uso de Tabaco  Alguna Vez</dc:title>
</cp:coreProperties>
</file>