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BAA-B280-4ABD-8E94-D1451528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F57-7AA3-4128-B1A5-D7E1E85B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F4D-EF18-4914-AD85-89BED84C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E8C-4AA6-4487-A286-674524C7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239-E692-46F4-BACE-F79FD02F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8D0-503E-4562-B5B4-4D643DF0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9CE-44FA-4376-A632-84044318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831-04B8-48E7-A0AD-D6AFB788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5F8-A15A-4AE1-BC1B-02DF3C04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FDD-8F80-4ADD-96BF-D195DDF3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244-4FD3-4703-9EEE-72E80E4A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8CB-07E4-413E-A28D-9890055C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0635-D066-4906-B9FA-785DBFD5049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71360" y="455760"/>
          <a:ext cx="132760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455760"/>
                    <a:ext cx="132760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83320" y="55530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5530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01680" y="47912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44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516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7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80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21680" y="414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848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5508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3480" y="55404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480" y="55404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97240" y="561960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31040" y="559116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4321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4321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9132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9132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8240" y="49132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9160" y="49132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11720" y="49132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49132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30508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30508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3036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40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320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562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7960" y="39337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14560" y="3549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41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24320" y="33782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745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063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272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0348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63760" y="41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8432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576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19360" y="41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1288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1288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46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462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954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95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94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ó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ó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412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064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49880" y="3382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86520" y="3497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530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285840" y="114300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14300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3103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40240" y="4575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24400" y="4734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832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341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28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9308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278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2783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547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3868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235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1040" y="3205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7316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5068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235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792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4960" y="3897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840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23796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7240" y="1687680"/>
          <a:ext cx="1217592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687680"/>
                    <a:ext cx="1217592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960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75280" y="49100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505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6200" y="2111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0680" y="490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1748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9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603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424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808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992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83760" y="377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29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9200" y="63216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5760" y="58104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209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35004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76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76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257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73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72160" y="2257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3216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442880"/>
          <a:ext cx="9113760" cy="43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2880"/>
                    <a:ext cx="9113760" cy="43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71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940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81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830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960" y="63216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25520" y="3006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18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6600" y="186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29528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198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19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63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13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117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297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353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849240"/>
          <a:ext cx="888048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849240"/>
                    <a:ext cx="888048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3164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319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3197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1240" y="5319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00" y="2189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855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5240" y="265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400" y="36846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5520" y="2217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6880" y="2751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281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408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86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589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97120" y="573408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8808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57240" y="541440"/>
          <a:ext cx="1284444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41440"/>
                    <a:ext cx="128444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97080" y="573408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668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480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480" y="338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75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3280" y="27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9400" y="26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70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71360" y="884160"/>
          <a:ext cx="13247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884160"/>
                    <a:ext cx="13247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11960" y="56815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92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5081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3003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341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860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5120" y="5160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4080" y="5160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72880" y="5162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93040" y="5162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032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2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3600" y="431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24440" y="27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1080" y="3300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5480" y="3983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838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19:25:31Z</dcterms:modified>
  <cp:revision>268</cp:revision>
  <dc:subject/>
  <dc:title>Gráfica 1 Prevalencia de Uso de Tabaco  Alguna Vez</dc:title>
</cp:coreProperties>
</file>