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9E4-FA02-403D-96AB-5AABFF1B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BFB-57E6-4148-896A-10FCB878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274-6F75-40DD-9509-112EA55E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230-811C-4321-8993-B1B23175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041-9C19-4A78-9436-9FA3CBAB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D67-E6B5-47C9-A045-BAF051CD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148B-933C-4E11-BBC3-24DB68AC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8C0-D7C7-4951-B85E-500E5667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36D-F448-4BEC-B150-B9988E5F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386-95FF-4C72-A182-5A145DB0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E73-4758-4433-B2C7-53D8AE59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5DB-2D51-4863-9359-F7970105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6B4A-A799-4B6E-99B3-1119C9A991C0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577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577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680" y="2809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04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71360" y="312840"/>
          <a:ext cx="13133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312840"/>
                    <a:ext cx="13133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297080" y="5495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17240" y="549576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223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556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463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800" y="46465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95120" y="46465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16000" y="46483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5280" y="4648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0840" y="3827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572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312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888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7560" y="3854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64440" y="399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91240" y="2700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69040" y="2960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28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18960" y="554040"/>
          <a:ext cx="1336176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8960" y="554040"/>
                    <a:ext cx="1336176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68440" y="54770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hau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45680" y="5448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32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320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320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6280" y="48560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8560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8560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8560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1680" y="48560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96080" y="48560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049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049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0348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836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13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340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84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3464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3480" y="41623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9972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00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3782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7468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376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9844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7500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0648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1308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86040" y="3863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0536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628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462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462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954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954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940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3532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16320" y="415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359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17144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17144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8600" y="10638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5720" y="1063800"/>
            <a:ext cx="193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41480" y="1065240"/>
            <a:ext cx="152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760" y="53532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516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62240" y="48798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988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003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22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46920" y="5311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78760" y="5340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640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2640" y="6012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60199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6012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1440" y="3548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14880" y="3006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784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09680" y="3376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59760" y="3181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07040" y="4822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4240" y="1820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8360" y="482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520" y="421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1998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6280" y="64357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142920" y="1630440"/>
          <a:ext cx="1261116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1630440"/>
                    <a:ext cx="1261116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8160" y="544032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96080" y="54421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2000" y="4853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2640" y="43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61880" y="219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92400" y="48229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5760" y="432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84040" y="2227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9440" y="544032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52680" y="544032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1320" y="463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7704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076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7912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080" y="360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75880" y="303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2440" y="5781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7816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3038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467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434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434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434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53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24280" y="20480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72160" y="21146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20800" y="5562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3440" y="55627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6560" y="55627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8160" y="2857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139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3720" y="3174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840" y="640728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436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5119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9576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1040" y="3321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14720" y="2282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0760" y="2664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92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5252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5252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767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767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767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25520" y="3032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5840" y="3489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720" y="3817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17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22320" y="649440"/>
          <a:ext cx="932184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320" y="649440"/>
                    <a:ext cx="932184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22400" y="508788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9040" y="51195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1520" y="51195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2440" y="51195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6760" y="25034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0040" y="3056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0600" y="2770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4688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3640" y="3627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72600" y="2017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42400" y="255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03040" y="308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7600" y="2208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786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38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2640" y="56484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5964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3520" y="34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57240" y="512640"/>
          <a:ext cx="1278756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12640"/>
                    <a:ext cx="127875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468440" y="5676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4552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2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2196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8168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660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408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7082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22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" y="352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72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12080" y="3051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58560" y="32479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816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480" y="3693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084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6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998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2380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40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655560"/>
          <a:ext cx="125269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5560"/>
                    <a:ext cx="125269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468440" y="5681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31560" y="56530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4368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9028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9496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8040" y="4989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24080" y="4989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3080" y="49910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4991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0480" y="29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0816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448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552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1972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8964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9804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02:58Z</dcterms:modified>
  <cp:revision>232</cp:revision>
  <dc:subject/>
  <dc:title>Gráfica 1 Prevalencia de Uso de Tabaco  Alguna Vez</dc:title>
</cp:coreProperties>
</file>