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EF3-8CF8-4F1C-B281-A66A565A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797-E844-41B3-BFD5-3D63F362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9CE-DA4D-4B9F-A7AF-98504785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369-DED0-4772-AF69-6C8DC902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CE0-D695-4E23-8619-EABE6F1C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10F-7A52-4AE9-9B58-B41ADE2F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C0E-65A4-4A53-8894-4DF14992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30B-A0CC-4C24-B755-A7D5ADB0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290-3F35-42DF-92E2-2981FDC9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BD9-3051-440D-BB8F-ED8B6B3B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C56-DE0E-427B-85E3-EE4132E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772-A42D-42D8-B436-9E8566C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9B66-7FF9-448D-8796-81EA2C4A265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5876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352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42920" y="369720"/>
          <a:ext cx="12985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369720"/>
                    <a:ext cx="12985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4080" y="5581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8740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7824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21000" y="2611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874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623556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0160" y="525600"/>
          <a:ext cx="132159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525600"/>
                    <a:ext cx="132159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480" y="55339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035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035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51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973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764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764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750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616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619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20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792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31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2064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637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98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338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3556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668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583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73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6436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66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3774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3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134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24360" y="3062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664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83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092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21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697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640728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4077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4077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8160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7476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2540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0080" y="2284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220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2956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76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280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7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26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638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236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38600" y="2219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68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68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06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203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568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91960" y="763560"/>
          <a:ext cx="90806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763560"/>
                    <a:ext cx="90806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5000" y="184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13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08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89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0120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256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164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0520" y="2351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23720" y="292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568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3640" y="57625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00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6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8440" y="455760"/>
          <a:ext cx="128426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455760"/>
                    <a:ext cx="128426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61960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548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680" y="326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4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38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35560"/>
            <a:ext cx="795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0160" y="712800"/>
          <a:ext cx="123523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12800"/>
                    <a:ext cx="123523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2952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193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6892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0271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5462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352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5268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1600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3400" y="241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079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11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877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38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054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6:10Z</dcterms:modified>
  <cp:revision>205</cp:revision>
  <dc:subject/>
  <dc:title>Gráfica 1 Prevalencia de Uso de Tabaco  Alguna Vez</dc:title>
</cp:coreProperties>
</file>