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999-F4C7-493B-B565-4BC68ABE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65B-80F1-4A93-9BBA-4A8BC5F9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A92-13A4-414B-9598-6E37D015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9CD-6A2C-409E-B433-69CD4686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CD91-126F-4601-AFD1-9D5B93E9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CF6-11F6-4B71-AFE8-850AA9EE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9D0-A74B-4ED3-A6ED-287FF4DD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584-D38F-4AD8-A3F1-F835D876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17D-A6AE-4718-B9D2-9F303175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843-0D72-47D1-91D6-5290DBA7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961-2909-4196-99B4-1F175D6D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32C-6710-484C-8D5C-DE100F1B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6FF1-66C9-4CCA-BA0A-E25710569C5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71360" y="455760"/>
          <a:ext cx="132760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455760"/>
                    <a:ext cx="132760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83320" y="55530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5530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652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985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89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89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01680" y="47912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440" y="4791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5160" y="399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5720" y="417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2782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318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800" y="3997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21680" y="414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848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5508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3480" y="55404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3480" y="55404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97240" y="561960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31040" y="559116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43216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43216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0" y="49132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9132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68240" y="49132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9160" y="49132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11720" y="49132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38880" y="49132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30508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30508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3036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40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992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320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562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7960" y="39337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14560" y="3549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360" y="41353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24320" y="33782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7452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0636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272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0348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63760" y="41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8432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5764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19360" y="41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61288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1288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462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462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954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954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940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ó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ó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525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4120" y="449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064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49880" y="3382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86520" y="3497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530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285840" y="114300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14300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244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87920" y="53103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851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40240" y="4575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145728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24400" y="4734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3832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341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28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93080" y="5311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278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2783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2640" y="59547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547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5954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38680" y="323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235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81040" y="3205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73160" y="3295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50680" y="4851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235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1792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22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4960" y="3897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8400" y="222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37848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23796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7240" y="1687680"/>
          <a:ext cx="1217592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687680"/>
                    <a:ext cx="1217592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970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97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970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5778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5778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5796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960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75280" y="49100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6960" y="4505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76200" y="2111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20680" y="490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17480" y="44640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55240" y="219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603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4240" y="4667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808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4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992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83760" y="3776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90000" y="297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9200" y="63216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5760" y="58104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209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35004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44680"/>
          <a:ext cx="833760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44680"/>
                    <a:ext cx="83376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257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73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72160" y="2257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209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1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321600"/>
            <a:ext cx="799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442880"/>
          <a:ext cx="9113760" cy="43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2880"/>
                    <a:ext cx="9113760" cy="43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562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5627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5627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17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171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940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281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830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960" y="63216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25520" y="3006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1882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6600" y="186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5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4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29528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19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198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19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3960" y="2631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13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5840" y="3117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9560" y="297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3532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432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760" y="849240"/>
          <a:ext cx="888048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849240"/>
                    <a:ext cx="888048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5120" y="531648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4520" y="53197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31972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1240" y="53197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00" y="2189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855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85240" y="2655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400" y="36846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5520" y="2217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6880" y="2751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7160" y="3281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408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986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589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97120" y="573408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8808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80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57240" y="541440"/>
          <a:ext cx="1284444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41440"/>
                    <a:ext cx="1284444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97080" y="573408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276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668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764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480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384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976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6509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027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6480" y="3382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75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3280" y="27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9400" y="26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66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670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28640" y="2759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536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71360" y="884160"/>
          <a:ext cx="132476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884160"/>
                    <a:ext cx="132476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11960" y="56815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920" y="56530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5081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3003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2341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860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5120" y="5160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24080" y="5160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72880" y="5162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93040" y="5162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032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30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525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3600" y="431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24440" y="278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91080" y="3300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5480" y="3983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83880" y="429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19:25:31Z</dcterms:modified>
  <cp:revision>268</cp:revision>
  <dc:subject/>
  <dc:title>Gráfica 1 Prevalencia de Uso de Tabaco  Alguna Vez</dc:title>
</cp:coreProperties>
</file>