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8CE-C939-40DC-B4CC-9D411AC1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CB4-4094-47BC-A52B-579AB45E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D81-924C-4559-97A0-BB17DB2F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839-2023-47ED-ACC6-77062561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854-691F-40D6-BA15-681FF82B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A0F-C46A-473A-B1FB-1F398F35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3EAF-0D91-4015-BD5B-7126E4E6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3DF-71E8-40B3-BC44-106CF7E1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E11-8A19-4822-A9BE-A6AC6832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003-59A4-41AE-8333-72322741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64A-4BFB-40F0-BF43-49F5F269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7C6-2855-46D2-B908-3A767B35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5C34-C68E-4D8C-A76F-64C75739191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577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57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1360" y="229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69720"/>
          <a:ext cx="1301760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69720"/>
                    <a:ext cx="1301760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325160" y="5581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795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03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03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705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3720" y="4705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3600" y="3884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468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2760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600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360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76200" y="382680"/>
          <a:ext cx="1347948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6200" y="382680"/>
                    <a:ext cx="134794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96360" y="541980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198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3176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3176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0" y="46846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15880" y="46846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3440" y="46846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4440" y="46846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906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906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8916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560" y="29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88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94600" y="3790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96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840" y="381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22280" y="39909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9972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4568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39924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52920" y="31780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7468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7000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4620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3935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70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1484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5360" y="3935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52720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720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412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56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559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89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7944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944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9954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195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009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28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81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450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42840" y="546732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22760" y="545292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708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144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904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5836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12080" y="4032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19960" y="2284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6080" y="54547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99480" y="54547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14200" y="5478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1160" y="5478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600" y="60688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48120" y="6105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9880" y="60976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3692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30760" y="3176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64200" y="3521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1480" y="4406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468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8000" y="363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570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8624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07520" y="1963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12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1360" y="3811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4800" y="2484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4357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1896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1573200"/>
          <a:ext cx="1223640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3200"/>
                    <a:ext cx="1223640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99540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3384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800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392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496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508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004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48243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681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1940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6720" y="47941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26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5268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15440" y="248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800" y="458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3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760" y="326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064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8800" y="3174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84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080" y="5867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610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72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940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94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29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619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771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93528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6756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1068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8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25800" y="2454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4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a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692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200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097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8440" y="24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13240" y="2860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3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75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7840" y="706320"/>
          <a:ext cx="9109080" cy="46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706320"/>
                    <a:ext cx="910908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22200" y="51451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8840" y="51768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176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6920" y="51768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640" y="1932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370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0760" y="1969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800" y="2490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6560" y="311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0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720" y="313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1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2080" y="567684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4880" y="2890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36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28600" y="426960"/>
          <a:ext cx="13247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26960"/>
                    <a:ext cx="13247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59116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5627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6972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4120" y="4714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316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1080" y="4716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7880" y="324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8680" y="324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97600" y="2422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3720" y="24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9360" y="2690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295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204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2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5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644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3828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7400" y="3322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885960"/>
          <a:ext cx="11776320" cy="44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885960"/>
                    <a:ext cx="11776320" cy="44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25360" y="5710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712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4796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9750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313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832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6320" y="5132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38240" y="513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3120" y="5133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5880" y="5133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880" y="250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6440" y="2760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30520" y="422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24320" y="272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05280" y="327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9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6948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1-25T17:41:44Z</cp:lastPrinted>
  <dcterms:modified xsi:type="dcterms:W3CDTF">1999-02-26T19:40:18Z</dcterms:modified>
  <cp:revision>255</cp:revision>
  <dc:subject/>
  <dc:title>Gráfica 1 Prevalencia de Uso de Tabaco  Alguna Vez</dc:title>
</cp:coreProperties>
</file>