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7B2-1C4C-472B-866A-66392AB9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334-A26C-46EF-9AB7-C5844825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DD5-D9C9-4708-BF4C-A11924BA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BAF-CED8-4A86-A32E-C6FD6023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450-F9A4-4217-A4C6-7052A48C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E73-8E11-4CB1-B22F-60275AC7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DB2-E6C1-4278-A7ED-AB623F9B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7D5-0609-4BF0-B174-771ABF0E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721-F88B-4AEE-A462-A4DAFDC1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CFA-6A78-4BAF-9FDD-4DE9AF11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D14-6FE4-49C7-86F4-03A785A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531-6EDA-4C28-8800-9C54F323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1EA4-C82B-4EDF-AD65-31EFBD6EEAA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523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804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5680" y="398520"/>
          <a:ext cx="13074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98520"/>
                    <a:ext cx="13074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96200" y="56674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04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924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9252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29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34960" y="2668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4560" y="2846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444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280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9784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488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68360"/>
          <a:ext cx="1313172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68360"/>
                    <a:ext cx="131317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54360" y="553392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05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0156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168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7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6216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6216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607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5120" y="40766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37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59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5200" y="40194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426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8860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2240" y="4078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32925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0312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92200" y="396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724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62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4021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15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6560" y="4021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0712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7032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7032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178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178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178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67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67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65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355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726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23160" y="4187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6292800"/>
            <a:ext cx="80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71440"/>
          <a:ext cx="1347660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71440"/>
                    <a:ext cx="1347660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38164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660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0556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80760" y="4734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860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13920" y="2427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92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25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925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8160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521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7000" y="3552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040" y="1878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600" y="3868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3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7240" y="1630440"/>
          <a:ext cx="122061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30440"/>
                    <a:ext cx="122061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138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004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000" y="4824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208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9120" y="4794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40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148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644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6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8800" y="30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391400" y="5810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2640" y="29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67040" y="29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2452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3216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3760" y="33717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704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171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196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2200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148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32160" y="28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321600"/>
            <a:ext cx="810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3960" y="294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625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44880" y="2178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292800"/>
            <a:ext cx="79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5252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5252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055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055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055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688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677880"/>
          <a:ext cx="897552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677880"/>
                    <a:ext cx="897552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28804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2624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416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8280" y="21034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598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662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313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120" y="2665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02840" y="322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172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4920" y="2928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58800" y="353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4360" y="576252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0256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900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8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85680" y="484200"/>
          <a:ext cx="129315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484200"/>
                    <a:ext cx="129315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8480" y="564840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16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540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65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606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223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41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297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38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360" y="2536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7252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99880" y="3176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29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7172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6292800"/>
            <a:ext cx="800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826920"/>
          <a:ext cx="124682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826920"/>
                    <a:ext cx="124682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81920" y="56815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1728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489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346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160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09960" y="516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0160" y="5162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64280" y="5162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12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528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7344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10160" y="26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360" y="3243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75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8356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96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27:48Z</dcterms:modified>
  <cp:revision>152</cp:revision>
  <dc:subject/>
  <dc:title>Gráfica 1 Prevalencia de Uso de Tabaco  Alguna Vez</dc:title>
</cp:coreProperties>
</file>