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263-5F47-48F0-85FA-9FD8759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715-2919-4AA3-9692-B53C2468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D4F-7B32-4D35-8F65-4B506305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1C9-6E6E-4FA7-90A1-471A6D92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51D-CEE4-45AA-87B1-0C87253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204-0232-49F7-854A-30A61AF7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BC0-ABA2-4A96-B335-326630E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3CB-B0B1-4011-8876-F91D3C6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459-7863-4101-99AB-5E55537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E0C-5BD1-4C4D-94B0-E8C2DC9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131-0772-48C9-844D-90F81C4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3FA-98B3-4017-BF80-F63BD03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7D5-C66D-4EFE-9116-44F677F197F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8006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6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515880"/>
          <a:ext cx="129286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515880"/>
                    <a:ext cx="12928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2080" y="5581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88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060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18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3560" y="46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19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619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377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39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840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2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62080" y="582480"/>
          <a:ext cx="131619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2080" y="582480"/>
                    <a:ext cx="131619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11600" y="556272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46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463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398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3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104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192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192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178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1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76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92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19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6440" y="623556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74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749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2800" y="33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1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4300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4300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2671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7556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89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0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897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4160" y="4521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0760" y="3092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3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5004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66840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66840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3720" y="4881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384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87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5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8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23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032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40" y="632160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9000" y="5867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C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2809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6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5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335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28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42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635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50040"/>
            <a:ext cx="815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6244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624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62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9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96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649440"/>
          <a:ext cx="9315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49440"/>
                    <a:ext cx="9315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49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040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73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812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280" y="271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880" y="23702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2833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984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9640" y="2522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36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14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560" y="3233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805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41440"/>
          <a:ext cx="13217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41440"/>
                    <a:ext cx="13217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296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736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952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11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49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80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376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9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544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76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552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584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930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930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080" y="556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46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4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504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4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00" y="26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83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30320" y="4027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29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629280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9:15Z</dcterms:modified>
  <cp:revision>191</cp:revision>
  <dc:subject/>
  <dc:title>Gráfica 1 Prevalencia de Uso de Tabaco  Alguna Vez</dc:title>
</cp:coreProperties>
</file>