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CD4-800F-4051-995D-D704FF4B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ACD-56C8-4CD0-B3F2-0853440B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2EA-4260-463C-ACCC-5786E178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E91-7699-4300-9919-916E6B6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12D-1A3F-4391-BEB0-A26B6B90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CC-48B9-428E-8DA5-053840A3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DC9-C14E-4D47-AC7C-1E1BF04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8AE-BA82-4D09-A289-CBB0471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A63-852F-4C0C-B1B1-5B6D2329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51F-568F-4852-B82D-6149D11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8D3-3197-456B-8033-19B462D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F89-F4F4-43FE-B905-0697B92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001-3DD9-4027-8C80-90D6B453902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52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28600" y="455760"/>
          <a:ext cx="13219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5760"/>
                    <a:ext cx="13219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38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386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3240" y="48196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92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848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304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34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912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76040" y="411120"/>
          <a:ext cx="128998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411120"/>
                    <a:ext cx="128998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5240" y="553392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704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4412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9480" y="39625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33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21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2740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4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55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26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100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56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712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75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69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6960" y="59832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6440" y="3178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6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6360" y="2198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440" y="1630440"/>
          <a:ext cx="12176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630440"/>
                    <a:ext cx="12176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3830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38488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531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8680" y="4505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05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3830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3830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11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600" y="3005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7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040" y="2889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360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7525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00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95880" y="58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264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5429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9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66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8280" y="3063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749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9544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8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37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176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9160" y="387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632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763560"/>
          <a:ext cx="88232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763560"/>
                    <a:ext cx="88232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444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44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79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827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08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71360" y="569880"/>
          <a:ext cx="13160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569880"/>
                    <a:ext cx="13160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4092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41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9800" y="4857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859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1593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880" y="20844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56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92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840" y="3022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307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7227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216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810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314280" y="770040"/>
          <a:ext cx="13076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770040"/>
                    <a:ext cx="13076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32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88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704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956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60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5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37:10Z</dcterms:modified>
  <cp:revision>292</cp:revision>
  <dc:subject/>
  <dc:title>Gráfica 1 Prevalencia de Uso de Tabaco  Alguna Vez</dc:title>
</cp:coreProperties>
</file>