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F16-A67B-4675-AD2B-EE0BAB8B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CCC-4EE5-421F-8C4A-0B26F2E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BFB-AFBD-45BB-96BB-0397A4D9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9FD-CD03-4F25-B91A-9B71CAB1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BB6-7639-46B7-9A25-AA2FC819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03E-C23C-4D1E-91B6-4585839B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D04-9DD4-4F06-9163-6DBFD4F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B53-133A-4EB9-B4CA-ECAE7865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1D1-AC12-4303-876F-240E294A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73B-1CBA-4084-9E15-4F0C5E8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CF5-88ED-4F8B-9AF6-26AB8C7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506-798C-4734-9E30-3C0743A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F21-98F9-4B5F-B137-2BBE6DA286F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686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610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987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808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2814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2814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40040" y="5581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960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326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5492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2560" y="630864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33280" y="353880"/>
          <a:ext cx="13103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353880"/>
                    <a:ext cx="13103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97640" y="536256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3341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688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360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849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149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49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76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17868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0684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84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296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168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04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364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9996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4760" y="49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212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576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84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3432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376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35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1240" y="454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3433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4400" y="297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7000" y="452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240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16120" y="3181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2240" y="485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692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840" y="4011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960" y="643572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57240" y="1601640"/>
          <a:ext cx="125809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125809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3816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660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076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5668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772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820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07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768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88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792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420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812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8200" y="2517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700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548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352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8080" y="47242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29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8840" y="1365120"/>
          <a:ext cx="82551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365120"/>
                    <a:ext cx="8255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8320" y="5667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2980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988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24280" y="26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0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6880" y="33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6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97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482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482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482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26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242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960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71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752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35004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9544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00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3690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353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9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16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892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1880" y="2776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62280" y="2081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9680" y="21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5004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3820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820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331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232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9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20592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20592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1166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48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76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86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5000" y="3713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0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532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560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328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492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5634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3760" y="5634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440" y="484200"/>
          <a:ext cx="12901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484200"/>
                    <a:ext cx="12901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840" y="56484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76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1920" y="3079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2847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57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1448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96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800" y="5567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0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40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584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95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224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56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17:25:56Z</cp:lastPrinted>
  <dcterms:modified xsi:type="dcterms:W3CDTF">1999-02-26T20:09:23Z</dcterms:modified>
  <cp:revision>74</cp:revision>
  <dc:subject/>
  <dc:title>Gráfica 1 Prevalencia de Uso de Tabaco  Alguna Vez</dc:title>
</cp:coreProperties>
</file>