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A4BC-1F22-4D01-8BDE-A91501D1F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D29A-0C13-4551-B5FC-623FD08B2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51BF-56AC-45B3-A204-231EB829D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5D12-2AB6-4F19-A768-AC1F0C2F1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FA68-506C-4FA0-8E67-05F33AF5C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A858-02B0-4BDD-8149-3BA79F473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E8F0-58FA-405E-95A7-FE56BC742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F1A0-93D2-42DF-940E-BA4FB391A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B383-9131-4A06-A383-FC6D1F048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FD77-0338-47F5-84D0-A46AB098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9F06-92ED-4C71-9B8D-AF415A2AB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AB86-29C4-4DC1-8CB1-18F98C20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C589A-4AE0-4268-BE79-EB7093D06023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33520" y="1409760"/>
          <a:ext cx="8153280" cy="43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9760"/>
                    <a:ext cx="815328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915840" y="5686560"/>
            <a:ext cx="34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Iztacal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67200" y="568656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24120" y="24955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77000" y="2441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5200" y="361800"/>
            <a:ext cx="480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de Uso de Taba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Uso Alguna V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18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c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85480" y="58068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10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-36360" y="398520"/>
          <a:ext cx="1261260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6360" y="398520"/>
                    <a:ext cx="1261260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1209600" y="555300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ztacal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603120" y="555300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19840" y="19080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29560" y="237492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76160" y="174132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52040" y="22320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5280" y="473220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2000" y="473220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01880" y="473400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121160" y="473400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19280" y="40273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297080" y="40273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78080" y="3068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914560" y="3132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681880" y="39402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221520" y="41133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291440" y="27860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869240" y="30751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0472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c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85480" y="263160"/>
            <a:ext cx="8574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11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-182520" y="582480"/>
          <a:ext cx="12958560" cy="467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82520" y="582480"/>
                    <a:ext cx="12958560" cy="46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1411560" y="5505480"/>
            <a:ext cx="125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Iztacal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688440" y="547704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90680" y="226044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657600" y="226044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81600" y="226044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3880" y="488484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87240" y="488484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711160" y="488484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37760" y="488484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397560" y="488484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553160" y="488484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82920" y="2133720"/>
            <a:ext cx="163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50640" y="2133720"/>
            <a:ext cx="1569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57720" y="2131920"/>
            <a:ext cx="156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31280" y="35211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75800" y="37497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09080" y="3990960"/>
            <a:ext cx="601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.1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672560" y="33498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991520" y="37339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50360" y="40482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885400" y="33498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31360" y="36640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521880" y="39639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67240" y="340668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646240" y="37209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906520" y="40766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484320" y="35496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60520" y="38070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120800" y="41353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698600" y="36068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071920" y="38926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390880" y="41353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0472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c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18960" y="1119240"/>
            <a:ext cx="85741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12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Edad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0" y="2556000"/>
          <a:ext cx="12238200" cy="31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556000"/>
                    <a:ext cx="12238200" cy="31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1424160" y="228924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691080" y="228924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815080" y="2289240"/>
            <a:ext cx="201600" cy="172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15680" y="213840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83040" y="213840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89400" y="213660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54520" y="557676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5 años o m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080320" y="557856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6 años o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5680" y="43830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421000" y="43545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02000" y="4211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278680" y="39546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7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172200" y="35542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008840" y="41306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192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c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441360" y="43812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Gráfica 13</a:t>
            </a:r>
            <a:br>
              <a:rPr sz="2400"/>
            </a:b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olerancia Social al Uso de Sustancia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-343080" y="1285920"/>
          <a:ext cx="13390920" cy="46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43080" y="1285920"/>
                    <a:ext cx="13390920" cy="46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1117440" y="11826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441600" y="118260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222960" y="118260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335240" y="1089000"/>
            <a:ext cx="14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b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670560" y="1089000"/>
            <a:ext cx="177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Ni  bien ni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467040" y="1090440"/>
            <a:ext cx="14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0760" y="5410080"/>
            <a:ext cx="13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173600" y="5367240"/>
            <a:ext cx="163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62240" y="502272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967800" y="486108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262640" y="1542960"/>
            <a:ext cx="84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95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795080" y="48769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3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920000" y="41464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3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356680" y="23414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72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404160" y="542592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450320" y="539748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522120" y="542124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579080" y="542124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54200" y="5997600"/>
            <a:ext cx="9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Taba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070520" y="599760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356600" y="599760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ro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373640" y="45212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3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653000" y="34909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1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114880" y="33498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5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049400" y="44928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4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395360" y="34052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2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16280" y="34383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2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65000" y="502272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522600" y="45784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1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86280" y="17924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87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7840" y="499428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08080" y="42973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9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84280" y="21416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78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0400" y="637848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c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461880" y="40968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14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ercepción de Riesgo Asociada al Uso de Sustancia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228600" y="1687680"/>
          <a:ext cx="11744280" cy="420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87680"/>
                    <a:ext cx="11744280" cy="42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1138320" y="169704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776760" y="169704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100920" y="169704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356840" y="1577880"/>
            <a:ext cx="198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No 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007880" y="1577880"/>
            <a:ext cx="1631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318000" y="1579680"/>
            <a:ext cx="222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muy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28160" y="5411880"/>
            <a:ext cx="17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595920" y="5413320"/>
            <a:ext cx="142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eroí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703560" y="493884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2480" y="44197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7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518960" y="22827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2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720680" y="49086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017320" y="43783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7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626800" y="23130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0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30800" y="5411880"/>
            <a:ext cx="165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Fumar 5 ó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igarrill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567160" y="5411880"/>
            <a:ext cx="189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so Frecu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Alcoh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844040" y="260352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975600" y="47530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406160" y="366552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842120" y="32050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4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22040" y="48387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112200" y="3633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1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775680" y="3174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4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76440" y="6292800"/>
            <a:ext cx="787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c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2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62040" y="1558800"/>
          <a:ext cx="8481960" cy="450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040" y="1558800"/>
                    <a:ext cx="8481960" cy="450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790640" y="586728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ztacal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72560" y="586728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95400" y="295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3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09800" y="2895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5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14880" y="275256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81760" y="30099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04720" y="635004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c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3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Nivel Esc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04640" y="1330200"/>
          <a:ext cx="8339400" cy="458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640" y="1330200"/>
                    <a:ext cx="8339400" cy="45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66720" y="568656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und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19360" y="56865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chille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81560" y="568656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09800" y="2971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67200" y="1962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29040" y="1971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57440" y="30956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1280" y="1990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67320" y="1990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7628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c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4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Tiempo Dedicado a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36680" y="1357200"/>
          <a:ext cx="9113760" cy="438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6680" y="1357200"/>
                    <a:ext cx="9113760" cy="43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878040" y="5477040"/>
            <a:ext cx="15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 estu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10680" y="5477040"/>
            <a:ext cx="138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ud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½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55240" y="5477040"/>
            <a:ext cx="215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udia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008000" y="2629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5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197160" y="17971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7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246640" y="28036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1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85960" y="2195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65320" y="2109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7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13360" y="2744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61960" y="635004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c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5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Tabaco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Por Tiempo Dedicado al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838080" y="1638360"/>
          <a:ext cx="7925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38360"/>
                    <a:ext cx="7925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068480" y="551484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 traba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89360" y="548316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rabaja 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88120" y="5467320"/>
            <a:ext cx="222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rabaja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82760" y="29210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2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85920" y="2197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7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01960" y="29494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7560" y="2890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47960" y="2224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92800" y="2313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19200" y="635004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c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5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6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20560" y="1208160"/>
          <a:ext cx="8974440" cy="420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60" y="1208160"/>
                    <a:ext cx="8974440" cy="42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754560" y="5519880"/>
            <a:ext cx="16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790720" y="551988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81520" y="551988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39840" y="24890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01880" y="24271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27240" y="30891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49760" y="29764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045040" y="35323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7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35520" y="34322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0400" y="626436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c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7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45960" y="762120"/>
          <a:ext cx="8798040" cy="46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5960" y="762120"/>
                    <a:ext cx="8798040" cy="46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722160" y="5259240"/>
            <a:ext cx="127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51920" y="529128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10120" y="529128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12600" y="529128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99120" y="23320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2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51560" y="29988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7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27800" y="22273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4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32720" y="29480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9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71040" y="34560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8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72760" y="21319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28440" y="26938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5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88720" y="32529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91720" y="23796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2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38040" y="29574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9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72760" y="35035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7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5520" y="5734080"/>
            <a:ext cx="125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Iztacal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059440" y="573408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26240" y="34909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7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6196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c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8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71360" y="684360"/>
          <a:ext cx="1226340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684360"/>
                    <a:ext cx="1226340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554120" y="5791320"/>
            <a:ext cx="125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Iztacal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517080" y="576252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8080" y="499752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73920" y="499284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07640" y="499752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53240" y="499752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338160" y="499284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24080" y="499752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19840" y="179388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29560" y="228924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078680" y="165096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82640" y="217008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600" y="37828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7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21400" y="38685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5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83280" y="29653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5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86640" y="28195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8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85040" y="3633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9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31160" y="37800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6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80840" y="35766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1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66480" y="37814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396840" y="28414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8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14160" y="29019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6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580880" y="32907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7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100000" y="36082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0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6321600"/>
            <a:ext cx="787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c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9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0" y="712800"/>
          <a:ext cx="1249200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12800"/>
                    <a:ext cx="1249200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1438200" y="562464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ztacal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46040" y="562464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05520" y="176544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15240" y="226044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161840" y="159876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6160" y="211788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70760" y="506088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424240" y="50608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644440" y="506088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292880" y="50608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18920" y="27860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9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93840" y="3103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23880" y="38973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4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944800" y="40561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96000" y="2610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276960" y="3157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0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318440" y="38116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926480" y="41259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472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c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3T19:22:50Z</dcterms:created>
  <dc:creator>JORGE VILLATORO</dc:creator>
  <dc:description/>
  <dc:language>en-US</dc:language>
  <cp:lastModifiedBy>Liliana</cp:lastModifiedBy>
  <cp:lastPrinted>1999-02-10T17:33:10Z</cp:lastPrinted>
  <dcterms:modified xsi:type="dcterms:W3CDTF">1999-02-26T20:23:43Z</dcterms:modified>
  <cp:revision>24</cp:revision>
  <dc:subject/>
  <dc:title>Sin título de diapositiva</dc:title>
</cp:coreProperties>
</file>