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E3F-652C-44C1-BD63-A32632E2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784-F72B-4A64-A801-5398D08E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769-E40A-4ADD-99FC-E52A7BFD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4FD-3597-4BDE-A4FD-B128C2E7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995-C82C-40B4-845E-CBBADE12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EA6B-252D-4CE2-A062-FAD6BE8A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DD9-0562-41D7-A755-B056C9D1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95C-8E74-4D80-8F92-3CE23971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DAF-E174-43D2-ABB2-A8B1AFA6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668-9F93-48DF-AA01-89FD5B43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9D8-51AC-41B0-B8F7-B50B536D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1F2-35BF-47AE-9224-6EA08D5D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91B5-B896-444B-BE9C-EFD3C1C21582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05876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5680" y="2352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1960" y="6292800"/>
            <a:ext cx="80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42920" y="369720"/>
          <a:ext cx="129859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369720"/>
                    <a:ext cx="129859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324080" y="55818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4588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795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128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03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9600" y="4703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95120" y="4703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87400" y="4705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78240" y="4705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5160" y="3970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21000" y="2611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57320" y="2874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600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72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556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83360" y="304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7840" y="6235560"/>
            <a:ext cx="80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0160" y="525600"/>
          <a:ext cx="1321596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0160" y="525600"/>
                    <a:ext cx="1321596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39480" y="553392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0356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035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0356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9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000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951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9736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9608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7648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7648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750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4040" y="32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6160" y="34923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3752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1532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619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16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1420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6016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07920" y="38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10160" y="33498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3192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2064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724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7500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6372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9876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1484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3380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35560"/>
            <a:ext cx="798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3216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3216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281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281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2795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24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87880" y="429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920" y="3668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3583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73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7840" y="626436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171440"/>
          <a:ext cx="1339092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171440"/>
                    <a:ext cx="1339092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532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30680" y="53103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90680" y="48798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11440" y="4660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37749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513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896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1520" y="5340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071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547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342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13480" y="59259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349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24360" y="3062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00560" y="3664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2919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3838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7860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092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600" y="2106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697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7040" y="2513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640728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334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85680" y="1630440"/>
          <a:ext cx="1240776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1630440"/>
                    <a:ext cx="1240776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0952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4796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7212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2804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7908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8956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8160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74760" y="4853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25400" y="44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33440" y="216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91880" y="48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5760" y="4349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0080" y="22845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220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2424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2956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976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2800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0756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26520" y="34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232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720" y="63216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90840" y="58104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66960" y="26384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81360" y="2867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2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434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434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434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2360" y="3029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38600" y="2219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168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019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2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168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054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75080" y="2631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806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2168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6600" y="2035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5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4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3216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809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809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5680" y="2317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032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73640" y="3503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7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91960" y="763560"/>
          <a:ext cx="908064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763560"/>
                    <a:ext cx="908064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512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176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6736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5000" y="184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2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513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6440" y="2084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2895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45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0120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2560" y="2637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31640" y="316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20520" y="2351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23720" y="2924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5680" y="3503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3640" y="576252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1000" y="57625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80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06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28440" y="455760"/>
          <a:ext cx="1284264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440" y="455760"/>
                    <a:ext cx="1284264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5160" y="561960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45520" y="559116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200" y="47260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45480" y="4743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764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048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2280" y="4745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09760" y="4754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7938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650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1700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7680" y="3268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468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40520" y="245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15440" y="24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13840" y="286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09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348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37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58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57080" y="2673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526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71720" y="337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7840" y="6235560"/>
            <a:ext cx="795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00160" y="712800"/>
          <a:ext cx="1235232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712800"/>
                    <a:ext cx="123523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295280" y="5653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624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1938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6892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20271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5462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352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5268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1600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7892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3400" y="2414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07960" y="304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8112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8772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2638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0540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4688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8372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784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16:10Z</dcterms:modified>
  <cp:revision>205</cp:revision>
  <dc:subject/>
  <dc:title>Gráfica 1 Prevalencia de Uso de Tabaco  Alguna Vez</dc:title>
</cp:coreProperties>
</file>