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590-26D9-429A-BF2C-63231ABB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F56-8D58-43D4-82FC-1B58D5F8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5B1-D1F4-4E36-8DD9-8E8F3B4D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B4B-0CB5-47CB-BBC7-8364639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999-1768-40AF-B147-7FDBDF0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580-D73B-4A0D-AF95-90017456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C4E-6A9B-43BF-98AE-AB27DFCE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3F1-E471-4589-8D5D-C9B580B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FDA-5C5B-40C7-846F-189BF613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A84-6D0A-4294-B751-B04B672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709-3CF4-4921-8332-8FB9C29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A83-693B-4CBA-BFCF-EFBC709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F58C-A69F-4032-AD1E-0398D4AE95B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809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312840"/>
          <a:ext cx="13133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312840"/>
                    <a:ext cx="13133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97080" y="5495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7240" y="54957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46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800" y="4646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46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6000" y="4648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648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82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9124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2960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18960" y="554040"/>
          <a:ext cx="133617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8960" y="554040"/>
                    <a:ext cx="133617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68440" y="5477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au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568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8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13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340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4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84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648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308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3532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15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59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8600" y="10638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5720" y="106380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106524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51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988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03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4692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87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19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12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548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0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59760" y="3181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8360" y="482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21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199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142920" y="1630440"/>
          <a:ext cx="12611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1630440"/>
                    <a:ext cx="12611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1880" y="219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4822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44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32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704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0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440" y="5781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781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303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67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53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4280" y="20480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114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656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372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43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119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957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1040" y="3321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282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30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48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22320" y="649440"/>
          <a:ext cx="93218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649440"/>
                    <a:ext cx="93218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2400" y="50878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0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51195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760" y="25034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40" y="305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060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6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3627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26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24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0304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208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640" y="56484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96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3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12640"/>
          <a:ext cx="12787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12640"/>
                    <a:ext cx="12787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68440" y="5676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196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560" y="3247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693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65556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556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68440" y="5681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480" y="29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816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02:58Z</dcterms:modified>
  <cp:revision>232</cp:revision>
  <dc:subject/>
  <dc:title>Gráfica 1 Prevalencia de Uso de Tabaco  Alguna Vez</dc:title>
</cp:coreProperties>
</file>