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FFB-87EA-4A18-9538-404E6D2A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C65-21A0-4F85-ABD9-158C635D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7DA-994C-407A-8A9F-B917BCBB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E40-274D-47CC-9CBB-C4E38D73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AED-7AC4-444F-AA6F-33D72C15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370-8F8D-47A8-8434-EE06DE0E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FA8-902A-45BF-8FE4-AD43EAAC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294-656F-4E33-A5FD-958A5E87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E86-3B06-48EC-9BA2-0F925EF2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708-73D3-4755-A5C7-18CC1289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455-C142-437B-8A08-DBA02DF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DDF-E252-475D-8DDA-748D45D7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CA67-2BE9-4A58-AF1F-0151461DBEF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5800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2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70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8920" y="426960"/>
          <a:ext cx="131014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426960"/>
                    <a:ext cx="131014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1000" y="56102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604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61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0800" y="4761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44800" y="4762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49760" y="4762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496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2588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92200" y="258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4300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53240" y="396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501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848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2628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6440" y="620712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9520" y="439560"/>
          <a:ext cx="129301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9520" y="439560"/>
                    <a:ext cx="129301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55080" y="550548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1708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640" y="47419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7419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2720" y="47419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80880" y="47419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11880" y="47419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38680" y="47419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880" y="3063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30160" y="3063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63080" y="353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34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5696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800" y="40496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1744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32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9236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364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0400" y="61786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38276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276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38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38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36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01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4512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30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3468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51760" y="40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1960" y="62071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5748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5748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200" y="5410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73600" y="53960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1860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803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54296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75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43080" y="2598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6124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33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200" y="59594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59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8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429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592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94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29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033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403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016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416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2049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954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7920" y="2455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7336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7336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60640" y="5024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25240" y="46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19320" y="22255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3440" y="496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57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98360" y="234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09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77200" y="3665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896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8376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3317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22160" y="1587600"/>
          <a:ext cx="848700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587600"/>
                    <a:ext cx="84870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76360" y="58672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5824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2640" y="24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9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838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67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5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85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2714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67040" y="2162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2085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67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3888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5054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50548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9320" y="550548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9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8560" y="2225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648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7208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5404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52456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664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054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9360" y="1835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22360" y="1293840"/>
          <a:ext cx="8972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1293840"/>
                    <a:ext cx="8972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40240" y="5634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76400" y="56340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7200" y="5634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9840" y="2317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0320" y="2541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70160" y="2860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664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3480" y="33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6396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735120"/>
          <a:ext cx="914400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5120"/>
                    <a:ext cx="914400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79440" y="53737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376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376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376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00" y="1731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588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3560" y="28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8524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4704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42240" y="325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27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1412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440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172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52160" y="290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24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240" y="577692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88080" y="5776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9320" y="484200"/>
          <a:ext cx="126126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0" y="484200"/>
                    <a:ext cx="126126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412280" y="576252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828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6972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2720" y="4714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6488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48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5400" y="4716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8132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4160" y="16794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15080" y="21956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93000" y="15526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68160" y="2068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360" y="3297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07280" y="3554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000" y="230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43880" y="26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99520" y="3062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116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652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096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57080" y="270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52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332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7640" y="655560"/>
          <a:ext cx="125542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40" y="655560"/>
                    <a:ext cx="125542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66880" y="56246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5699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089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648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684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740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7876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240" y="2271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9360" y="296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0320" y="2552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62480" y="3100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200" y="61786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0T17:42:04Z</cp:lastPrinted>
  <dcterms:modified xsi:type="dcterms:W3CDTF">1999-02-26T20:41:28Z</dcterms:modified>
  <cp:revision>106</cp:revision>
  <dc:subject/>
  <dc:title>Gráfica 1 Prevalencia de Uso de Tabaco  Alguna Vez</dc:title>
</cp:coreProperties>
</file>