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18B-164C-4F68-AE2D-C49CC605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9ED-B4A8-44DE-92F9-4DFB9C73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F1E-9F6A-4054-8EF6-20707375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927-4549-4228-B68A-A81FF370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C5F-3002-48B0-AB08-959EF5B5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74B-BDA5-47A2-B2E4-DB78CB5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1A6-BF3D-4380-8EAE-C3B7D5C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FDB-E4C8-4867-BD14-6FF0C0C7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533-333E-4592-B9AD-B587111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102-417D-4F5D-9C0B-3FD897C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499-424F-4E55-892A-757B5F31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078-8790-4633-8F0C-55F8592D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E73-F72D-4E61-81E1-849A629A085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49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57040" y="341280"/>
          <a:ext cx="13190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341280"/>
                    <a:ext cx="13190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4120" y="55818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7804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120" y="385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00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360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82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1216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0748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0748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840" y="54770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8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7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415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558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4812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-371520" y="2298600"/>
          <a:ext cx="130176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1520" y="2298600"/>
                    <a:ext cx="130176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750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750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24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24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22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257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6616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70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672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3084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6436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3987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2868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2868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85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13280" y="5962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8504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59680" y="45784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2456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72840" y="317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63880" y="460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090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73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040" y="4879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2160" y="48816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300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41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4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8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6000" y="36939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0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317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247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200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85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8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29040" y="2540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177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24080"/>
          <a:ext cx="8858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24080"/>
                    <a:ext cx="8858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4640" y="331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280" y="706320"/>
          <a:ext cx="899964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706320"/>
                    <a:ext cx="89996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0" y="52052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052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827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855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1080" y="57056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21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12640"/>
          <a:ext cx="13103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12640"/>
                    <a:ext cx="13103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53960" y="561960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472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892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70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86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0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9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61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6820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70040"/>
          <a:ext cx="121237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70040"/>
                    <a:ext cx="121237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240" y="5624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16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2428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156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50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7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684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5000" y="4370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5292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268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380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8376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643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5T16:59:06Z</cp:lastPrinted>
  <dcterms:modified xsi:type="dcterms:W3CDTF">1999-02-26T20:11:52Z</dcterms:modified>
  <cp:revision>221</cp:revision>
  <dc:subject/>
  <dc:title>Gráfica 1 Prevalencia de Uso de Tabaco  Alguna Vez</dc:title>
</cp:coreProperties>
</file>