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D33-7ACD-49D3-B508-63C0F193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FA4-26FA-4E83-BB34-3270A64B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249-7399-47B9-87E6-567825E8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96E6-215E-433C-A68E-0539EE5C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BED-205D-4D68-9C12-EA5B0745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744-DDE8-434B-9EF1-336816A5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33A-0574-4FAA-90BA-5A26E598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476-52F8-4664-BDC7-AFD9B631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AA1-7988-43CC-98AF-B2DA63FB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F35-6537-4321-9D40-5CB5B8AE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2DA-696C-4E0F-931B-D7D67A7E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11D-4210-4AB0-9D6B-610321E1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C3F6-551F-4F5C-9077-3C8E04D60FBE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858960" y="5629320"/>
            <a:ext cx="34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9960" y="5629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098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14480" y="341280"/>
          <a:ext cx="127875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341280"/>
                    <a:ext cx="127875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25000" y="561024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74320" y="56102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68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960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6632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01880" y="4734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92360" y="4734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3600" y="394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572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49280" y="2982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28880" y="3103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0320" y="3911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2152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1440" y="272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9768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4840" y="496800"/>
          <a:ext cx="1304604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4840" y="496800"/>
                    <a:ext cx="1304604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10680" y="5505480"/>
            <a:ext cx="145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88440" y="54770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747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747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747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548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6656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756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81600" y="47991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04804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04804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0462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248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00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09440" y="4105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1532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2240" y="36766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5036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8160" y="3206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32080" y="34923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3440" y="3906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24480" y="33210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0652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432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8896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960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8464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0036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1932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920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9876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876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60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60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60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0976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09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083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68640" y="56624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94800" y="566424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29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21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983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86520" y="424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66080" y="3902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12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2868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2868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60560" y="121140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4720" y="121140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121140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0" y="11174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1174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9800" y="11192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34920" y="546732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30680" y="542448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3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689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54296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79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48440" y="3917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5120" y="2484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32800" y="54259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35840" y="54547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0780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421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2640" y="606888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0520" y="60768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60688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549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10240" y="3405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00560" y="3321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3319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6280" y="3467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0704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14720" y="1935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6280" y="4908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520" y="4097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22557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4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64641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200160" y="1630440"/>
          <a:ext cx="125524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0160" y="1630440"/>
                    <a:ext cx="125524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85240" y="54687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53160" y="547056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46320" y="4881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68160" y="44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05000" y="213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5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35000" y="485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60080" y="4378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6800" y="217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4960" y="54687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7000" y="54687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2880" y="4638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7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9136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99400" y="320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21880" y="4724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40840" y="35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75880" y="3146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92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58800"/>
          <a:ext cx="84819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84819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34680" y="58672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38160" y="2581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813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86440" y="2752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04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8240" y="27716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09800" y="22766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43520" y="2257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04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2080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5344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800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36440" y="228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1911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75080" y="2717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6532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635004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835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85920" y="2340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3680" y="2235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04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40976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0976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63400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63400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6340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1360" y="268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627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13080" y="3232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90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16400" y="3732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6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75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64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2160" y="820800"/>
          <a:ext cx="917712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820800"/>
                    <a:ext cx="91771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36520" y="523080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160" y="5262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2624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69680" y="5262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3640" y="2246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4520" y="2770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85080" y="2427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04480" y="31478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99320" y="3684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58280" y="2160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1200" y="269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31480" y="325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7600" y="2379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80800" y="2957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532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6600" y="5705640"/>
            <a:ext cx="145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3084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920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60480" y="598320"/>
          <a:ext cx="1460196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480" y="598320"/>
                    <a:ext cx="146019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25160" y="5762520"/>
            <a:ext cx="145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964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6680" y="4886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36080" y="492588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10480" y="49546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23840" y="48880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8200" y="489744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7938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3130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6480" y="3468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50040" y="378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40520" y="2822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6640" y="2933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56600" y="3519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63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8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7720" y="3490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23720" y="3724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755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28640" y="2844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09480" y="323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42920" y="3522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35004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47520" y="712800"/>
          <a:ext cx="125283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7520" y="712800"/>
                    <a:ext cx="125283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96560" y="562464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17440" y="55958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17938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0076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627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5204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360" y="507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6840" y="507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44280" y="5076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5032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6360" y="28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30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7000" y="3811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5912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1520" y="2581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3404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6120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1236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21:23Z</dcterms:modified>
  <cp:revision>180</cp:revision>
  <dc:subject/>
  <dc:title>Gráfica 1 Prevalencia de Uso de Tabaco  Alguna Vez</dc:title>
</cp:coreProperties>
</file>