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9B7-E2B3-46AF-BEAC-619D8ABA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036-2808-48E6-8C9E-EC517238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ADB-88DB-4F85-A477-A4ABC545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E13-E4A6-4C5E-85B7-B0626611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15D-CF9B-4812-ADCD-C7331225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86E-6020-41A9-80B8-103DC2D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B03-2BAD-4718-B82B-CDCBFAA3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CAB-59D8-4CC0-925E-BF26923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8C1-DCD2-4E31-924A-514DD47A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458-37DD-4B66-AFF9-4043282A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926-C658-4CB1-8A3A-D7DCA01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B91-DE02-4849-A778-9C4E31B6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0AD1-AE31-4D05-B6C2-DA41B596FB4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324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5920" y="56102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57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668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385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2039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3584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2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57240" y="525600"/>
          <a:ext cx="125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25600"/>
                    <a:ext cx="125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41280" y="547704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4552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03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03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2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4448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996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2766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2766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2748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00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080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8240" y="334980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4006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35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844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2355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41520"/>
          <a:ext cx="1238256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41520"/>
                    <a:ext cx="123825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6035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6035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6035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52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52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512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43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8048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11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78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273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0024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0024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816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204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81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20880" y="4146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040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220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04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11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84880" y="590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95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06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202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56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48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42920" y="1773360"/>
          <a:ext cx="120902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773360"/>
                    <a:ext cx="120902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686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686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686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4944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4944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508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50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672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50245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62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5022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472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648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40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580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38600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38600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06960" y="58104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5844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295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581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24452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24452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02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2657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4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720" y="211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5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840" y="54579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259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100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111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06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9640" y="1182600"/>
          <a:ext cx="8791560" cy="44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182600"/>
                    <a:ext cx="8791560" cy="44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748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9640" y="22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0480" y="248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8760" y="2774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40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7760" y="34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0680" y="907920"/>
          <a:ext cx="86533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907920"/>
                    <a:ext cx="86533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7960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900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00" y="17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604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2640" y="21700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18400" y="2747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427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436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014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000" y="356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440" y="57484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748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2280" y="2976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398520"/>
          <a:ext cx="123555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398520"/>
                    <a:ext cx="123555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720" y="57340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59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6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0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24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2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19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200" y="23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719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80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960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8572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00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4312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4124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4124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97480" y="5710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45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720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071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79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9128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2400" y="3840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08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9:16:57Z</cp:lastPrinted>
  <dcterms:modified xsi:type="dcterms:W3CDTF">1999-02-26T20:30:35Z</dcterms:modified>
  <cp:revision>135</cp:revision>
  <dc:subject/>
  <dc:title>Gráfica 1 Prevalencia de Uso de Tabaco  Alguna Vez</dc:title>
</cp:coreProperties>
</file>