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1D5-5B7B-4280-A535-355C1D2A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893-8015-4A1B-857E-9310193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C1A-71D3-46E2-AA4E-B1AC03AF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670-7DB6-4E43-A9D1-8E6C2167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154-2DB8-4D5C-A846-4E30754E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CF4-D2A2-48E6-BFC4-718130BB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C69-2F6D-40B8-BFDC-95B81612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CE4-80B2-4D85-9615-9CEF2BD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3CD-6A6E-423F-9E65-F177031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FC1-3833-4C66-9825-E5F4759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BB1-0288-442A-AE84-441071A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F63-C742-48CA-A04E-2FB8EF8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858-E611-42E0-B480-8E01FB1FB55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6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55760"/>
          <a:ext cx="12498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760"/>
                    <a:ext cx="12498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53800" y="5610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9028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61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30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6392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308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6264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44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61920" y="698400"/>
          <a:ext cx="127000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698400"/>
                    <a:ext cx="127000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355040" y="55627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7208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608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740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512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184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01360" y="372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328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0688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58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320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726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7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55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868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9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8592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8592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39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398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398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462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46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47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38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917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93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40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02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7560" y="54259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450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072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8120" y="4692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7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3680" y="3035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1120" y="46641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519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44560" y="3238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40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44560"/>
          <a:ext cx="11744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44560"/>
                    <a:ext cx="11744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680" y="4995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4040" y="46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99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31800" y="45496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60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8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2892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2892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867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38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486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590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43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40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39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56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17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520" y="20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435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1150920"/>
          <a:ext cx="9118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50920"/>
                    <a:ext cx="9118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180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796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4480" y="326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294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5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649440"/>
          <a:ext cx="91771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49440"/>
                    <a:ext cx="91771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7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87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84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" y="2941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52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4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14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11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916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000" y="5705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764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512640"/>
          <a:ext cx="122378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512640"/>
                    <a:ext cx="122378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360" y="57625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536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76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68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1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240" y="3022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3247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35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236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00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520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74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57240" y="541440"/>
          <a:ext cx="11979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1979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25200" y="562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028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27176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460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37720" y="2575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560" y="487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487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0000" y="4876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56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8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968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084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6:54:00Z</cp:lastPrinted>
  <dcterms:modified xsi:type="dcterms:W3CDTF">1999-02-26T20:32:36Z</dcterms:modified>
  <cp:revision>128</cp:revision>
  <dc:subject/>
  <dc:title>Gráfica 1 Prevalencia de Uso de Tabaco  Alguna Vez</dc:title>
</cp:coreProperties>
</file>